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B3A8-5BEF-4A7D-8701-4D40DA251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0FC9-BD77-4D2A-AA28-DF53FB1A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71EE-1E95-490D-B501-E6822768B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54FE-A96B-47BE-9E1A-95C62C624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74EB-6EDD-40D9-8784-8D670B9B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7DA1-AF85-47D7-A88F-6B734F2D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E811-5DD1-4E01-B4B8-212176DF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C6B8-5558-4285-A120-0CE3DEB0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C18A-6D0C-47F0-A3B0-C3D527F1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036F-DEED-4599-9C48-E3F5BE11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9693-8805-4F6F-870B-22D33721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67C9-FA5F-47F9-9AEC-F4129A66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3F8C-75AE-4300-9380-9ADC35C4F9D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hyperlink" Target="http://www.palstinerce.osg/" TargetMode="External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75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429000" y="1447920"/>
            <a:ext cx="2895480" cy="24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Stenci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Stencil"/>
              <a:ea typeface="Stenci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429000" y="1371600"/>
            <a:ext cx="2895480" cy="245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Stenci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Stencil"/>
              <a:ea typeface="Stenci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505320" y="1143000"/>
            <a:ext cx="2895480" cy="245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Stenci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Stencil"/>
              <a:ea typeface="Stenci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76720" y="1219320"/>
            <a:ext cx="2895480" cy="24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Stenci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Stencil"/>
              <a:ea typeface="Stenci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114800" y="1447920"/>
            <a:ext cx="1905120" cy="22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Maiandra GD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Maiandra GD"/>
              <a:ea typeface="Maiandra GD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581280" y="1219320"/>
            <a:ext cx="2895840" cy="24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Ravie"/>
              </a:rPr>
              <a:t>g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Ravie"/>
              <a:ea typeface="Ravie"/>
            </a:endParaRPr>
          </a:p>
        </p:txBody>
      </p:sp>
    </p:spTree>
  </p:cSld>
  <p:transition advTm="16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000"/>
                            </p:stCondLst>
                            <p:childTnLst>
                              <p:par>
                                <p:cTn id="42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9000"/>
                            </p:stCondLst>
                            <p:childTnLst>
                              <p:par>
                                <p:cTn id="53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362320" y="304920"/>
            <a:ext cx="34239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Forte"/>
              </a:rPr>
              <a:t>In name of allah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181480" y="3124080"/>
            <a:ext cx="3533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Forte"/>
              </a:rPr>
              <a:t>(2)mohanad jalo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181480" y="3886200"/>
            <a:ext cx="3533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Forte"/>
              </a:rPr>
              <a:t>(3) qasem nas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257800" y="4724280"/>
            <a:ext cx="3533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Forte"/>
              </a:rPr>
              <a:t>(4) ameer fano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181480" y="2362320"/>
            <a:ext cx="3533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(1)hamzahramd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410080" y="5486400"/>
            <a:ext cx="3533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Forte"/>
              </a:rPr>
              <a:t>(5)eaid ai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05320" y="6172200"/>
            <a:ext cx="38386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Forte"/>
              </a:rPr>
              <a:t>(6)ashraf sa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971800"/>
            <a:ext cx="38386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Forte"/>
              </a:rPr>
              <a:t>(7)mahmmod nafiz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29200" y="1676520"/>
            <a:ext cx="3867120" cy="228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astellar"/>
              </a:rPr>
              <a:t>names of students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astellar"/>
              <a:ea typeface="Castellar"/>
            </a:endParaRPr>
          </a:p>
        </p:txBody>
      </p:sp>
    </p:spTree>
  </p:cSld>
  <p:transition advTm="16000">
    <p:blinds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5e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586480" y="373392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raaya hospit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15000" y="2514600"/>
            <a:ext cx="24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mallah Hospit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90200" y="4952880"/>
            <a:ext cx="301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 Crescent Hospit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7160" y="2438280"/>
            <a:ext cx="30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  <a:ea typeface="Andalus"/>
              </a:rPr>
              <a:t>Pharmacy Max Kerr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105520" y="838080"/>
            <a:ext cx="3276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radley Hand ITC"/>
              </a:rPr>
              <a:t>The name of  hospital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radley Hand ITC"/>
              <a:ea typeface="Bradley Hand ITC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600" y="762120"/>
            <a:ext cx="4191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urlz MT"/>
              </a:rPr>
              <a:t>the name pharmaceutical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sp>
        <p:nvSpPr>
          <p:cNvPr id="62" name=""/>
          <p:cNvSpPr/>
          <p:nvPr/>
        </p:nvSpPr>
        <p:spPr>
          <a:xfrm>
            <a:off x="414720" y="3733920"/>
            <a:ext cx="26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y 24 hour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9000"/>
                            </p:stCondLst>
                            <p:childTnLst>
                              <p:par>
                                <p:cTn id="1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9500"/>
                            </p:stCondLst>
                            <p:childTnLst>
                              <p:par>
                                <p:cTn id="14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3750"/>
                            </p:stCondLst>
                            <p:childTnLst>
                              <p:par>
                                <p:cTn id="15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7750"/>
                            </p:stCondLst>
                            <p:childTnLst>
                              <p:par>
                                <p:cTn id="16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152280"/>
            <a:ext cx="37339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ot Pizza"/>
              </a:rPr>
              <a:t>max kier pharmcy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ot Pizza"/>
              <a:ea typeface="Hot Pizz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762120"/>
            <a:ext cx="38862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ress : ramlah - al masion street- beside Bravo supe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e: 02_29660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Email:maxkierphamacy@yahoo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43600" y="5029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4038480"/>
            <a:ext cx="152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7543800" y="358092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1523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rmacy Max Ke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924680" y="1981080"/>
            <a:ext cx="533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1219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zziness al a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1676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Em alshr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900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964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200"/>
                            </p:stCondLst>
                            <p:childTnLst>
                              <p:par>
                                <p:cTn id="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990720"/>
            <a:ext cx="37339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Address : al beirah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al-kudos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owner: yosif khalid Abu- khd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Tel : 02_29715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58320" y="152280"/>
            <a:ext cx="26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y 24 hour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81680" y="23623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ari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96080" y="2666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72200" y="533412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00600" y="4572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47242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em alshar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600" y="0"/>
            <a:ext cx="3276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harmacy 24 hours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16000">
    <p:blinds dir="ver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300"/>
                            </p:stCondLst>
                            <p:childTnLst>
                              <p:par>
                                <p:cTn id="25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450"/>
                            </p:stCondLst>
                            <p:childTnLst>
                              <p:par>
                                <p:cTn id="26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250"/>
                            </p:stCondLst>
                            <p:childTnLst>
                              <p:par>
                                <p:cTn id="26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400"/>
                            </p:stCondLst>
                            <p:childTnLst>
                              <p:par>
                                <p:cTn id="27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900"/>
                            </p:stCondLst>
                            <p:childTnLst>
                              <p:par>
                                <p:cTn id="28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6900"/>
                            </p:stCondLst>
                            <p:childTnLst>
                              <p:par>
                                <p:cTn id="2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740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0" y="152280"/>
            <a:ext cx="29052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LibertySCD"/>
              </a:rPr>
              <a:t>ramlah hospital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LibertySCD"/>
              <a:ea typeface="LibertySCD"/>
            </a:endParaRPr>
          </a:p>
        </p:txBody>
      </p:sp>
      <p:sp>
        <p:nvSpPr>
          <p:cNvPr id="84" name=""/>
          <p:cNvSpPr/>
          <p:nvPr/>
        </p:nvSpPr>
        <p:spPr>
          <a:xfrm>
            <a:off x="0" y="990720"/>
            <a:ext cx="40384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ddress: Ramallah – Kaddora c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Manager: Ail Abed-rabu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el : 29822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086600" y="1219320"/>
            <a:ext cx="170172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7772400" y="1447920"/>
            <a:ext cx="255600" cy="549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5508720" y="6337440"/>
            <a:ext cx="461880" cy="476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324480" y="762120"/>
            <a:ext cx="245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mallah Hospit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65040" y="169164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zzin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 sa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28954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 sheh zaied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ver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4250"/>
                            </p:stCondLst>
                            <p:childTnLst>
                              <p:par>
                                <p:cTn id="3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4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4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4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4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750"/>
                            </p:stCondLst>
                            <p:childTnLst>
                              <p:par>
                                <p:cTn id="31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600"/>
                            </p:stCondLst>
                            <p:childTnLst>
                              <p:par>
                                <p:cTn id="3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8100"/>
                            </p:stCondLst>
                            <p:childTnLst>
                              <p:par>
                                <p:cTn id="33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9100"/>
                            </p:stCondLst>
                            <p:childTnLst>
                              <p:par>
                                <p:cTn id="33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100"/>
                            </p:stCondLst>
                            <p:childTnLst>
                              <p:par>
                                <p:cTn id="34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1100"/>
                            </p:stCondLst>
                            <p:childTnLst>
                              <p:par>
                                <p:cTn id="35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2100"/>
                            </p:stCondLst>
                            <p:childTnLst>
                              <p:par>
                                <p:cTn id="36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4100"/>
                            </p:stCondLst>
                            <p:childTnLst>
                              <p:par>
                                <p:cTn id="36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900"/>
                            </p:stCondLst>
                            <p:childTnLst>
                              <p:par>
                                <p:cTn id="3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180"/>
                            </p:stCondLst>
                            <p:childTnLst>
                              <p:par>
                                <p:cTn id="3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52280" y="304920"/>
            <a:ext cx="3286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gency FB"/>
              </a:rPr>
              <a:t>Red crescent hospital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219320"/>
            <a:ext cx="40384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Address : Al beirah _ Nablus street - beside the Islamic ba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P.O.box :363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owner : unrw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Tel : 2400666/105/1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Fax : 240651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website :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palstinerce.os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e-mail : info@palstine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411480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181480" y="7621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Red crescent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1523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9246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35812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ramma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vert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3750"/>
                            </p:stCondLst>
                            <p:childTnLst>
                              <p:par>
                                <p:cTn id="41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7000"/>
                            </p:stCondLst>
                            <p:childTnLst>
                              <p:par>
                                <p:cTn id="42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0"/>
                            </p:stCondLst>
                            <p:childTnLst>
                              <p:par>
                                <p:cTn id="43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5000"/>
                            </p:stCondLst>
                            <p:childTnLst>
                              <p:par>
                                <p:cTn id="44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8000"/>
                            </p:stCondLst>
                            <p:childTnLst>
                              <p:par>
                                <p:cTn id="45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5000"/>
                            </p:stCondLst>
                            <p:childTnLst>
                              <p:par>
                                <p:cTn id="45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1250"/>
                            </p:stCondLst>
                            <p:childTnLst>
                              <p:par>
                                <p:cTn id="46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42250"/>
                            </p:stCondLst>
                            <p:childTnLst>
                              <p:par>
                                <p:cTn id="4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43250"/>
                            </p:stCondLst>
                            <p:childTnLst>
                              <p:par>
                                <p:cTn id="48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525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6T07:54:04Z</dcterms:created>
  <dc:creator>UNRWA</dc:creator>
  <dc:description/>
  <dc:language>en-US</dc:language>
  <cp:lastModifiedBy>Bader</cp:lastModifiedBy>
  <dcterms:modified xsi:type="dcterms:W3CDTF">2007-05-29T10:19:14Z</dcterms:modified>
  <cp:revision>16</cp:revision>
  <dc:subject/>
  <dc:title>الشريحة 1</dc:title>
</cp:coreProperties>
</file>