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E5A-AF0A-4822-9ADE-3C560284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587-D3D8-4B18-A95B-0E32BA4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40B-B457-48DA-8913-141E9176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EBE-E8E2-44B7-8085-6E3641EB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F0D-F1C1-439E-B78C-7207646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FD3-6337-4B92-A79F-B28DEFAD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588-B58E-4E6E-A908-17B50082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EE6-B9BB-45E2-8272-8220FD97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3F9-C1FB-4CA5-9573-1556238F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EF7-5D0A-45B1-B593-756E8E5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DBF-801A-4D5B-AE7F-87184A0E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912-C777-4688-B185-EA185739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FF1-54C6-4FF1-95B5-E8636ECA42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In name of al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i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ress : ramlah - al masion street- beside Bravo sup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mail:maxkier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ress : al beirah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l-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wner: yosif khalid Abu- kh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el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0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25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400"/>
                            </p:stCondLst>
                            <p:childTnLst>
                              <p:par>
                                <p:cTn id="2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900"/>
                            </p:stCondLst>
                            <p:childTnLst>
                              <p:par>
                                <p:cTn id="2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9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4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dress: Ramallah – Kaddora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ager: Ail Abed-rab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25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750"/>
                            </p:stCondLst>
                            <p:childTnLst>
                              <p:par>
                                <p:cTn id="3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10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100"/>
                            </p:stCondLst>
                            <p:childTnLst>
                              <p:par>
                                <p:cTn id="3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100"/>
                            </p:stCondLst>
                            <p:childTnLst>
                              <p:par>
                                <p:cTn id="3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1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8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1932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Address : Al beirah _ Nablus street - beside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.O.box 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owner : unr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el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websit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750"/>
                            </p:stCondLst>
                            <p:childTnLst>
                              <p:par>
                                <p:cTn id="4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125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225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3250"/>
                            </p:stCondLst>
                            <p:childTnLst>
                              <p:par>
                                <p:cTn id="4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25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Bader</cp:lastModifiedBy>
  <dcterms:modified xsi:type="dcterms:W3CDTF">2007-05-29T10:19:14Z</dcterms:modified>
  <cp:revision>16</cp:revision>
  <dc:subject/>
  <dc:title>الشريحة 1</dc:title>
</cp:coreProperties>
</file>