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43B-A216-4817-895A-B99ED7AC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0DF-50A6-47C4-99D0-15A20000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F48-28DB-4D1D-95BB-15FEF146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FC9-9A94-4E1C-B02D-947F8686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179-CA0E-42A1-86B9-FE721E60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ADE-7BEA-4543-9663-EFD224B1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227-F627-4B77-90EA-993B6759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233-5B8B-408B-855E-B4911402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D66-58F2-44EC-B5CF-4DF62E4A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5FA-BEA1-433F-8D47-2325946A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169-0965-44B3-B5EA-B6220CE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0D0-3B13-4388-9908-7F43EB80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D84B-E10D-44B5-A63E-153210049C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hyperlink" Target="http://www.palstinerce.osg/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29000" y="14479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tenci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9000" y="13716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Stenci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05320" y="11430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tenci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76720" y="12193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Stenci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1447920"/>
            <a:ext cx="19051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Maiandra GD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1219320"/>
            <a:ext cx="289584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Ravie"/>
              </a:rPr>
              <a:t>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Ravie"/>
              <a:ea typeface="Ravie"/>
            </a:endParaRPr>
          </a:p>
        </p:txBody>
      </p:sp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62320" y="304920"/>
            <a:ext cx="342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orte"/>
              </a:rPr>
              <a:t>In name of alla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81480" y="31240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(2)mohanad jal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81480" y="38862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(3) qasem n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57800" y="47242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(4) ameer fan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236232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(1)hamzahram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54864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(5)eaid a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05320" y="61722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Forte"/>
              </a:rPr>
              <a:t>(6)ashraf sa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9718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Forte"/>
              </a:rPr>
              <a:t>(7)mahmmod naf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0" y="1676520"/>
            <a:ext cx="38671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names of studen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p:transition advTm="16000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6480" y="37339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aaya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51460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0200" y="495288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Crescent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2438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ndalus"/>
              </a:rPr>
              <a:t>Pharmacy Max Ker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838080"/>
            <a:ext cx="327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adley Hand ITC"/>
              </a:rPr>
              <a:t>The name of  hospital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762120"/>
            <a:ext cx="4191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urlz MT"/>
              </a:rPr>
              <a:t>the name pharmaceutical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2" name=""/>
          <p:cNvSpPr/>
          <p:nvPr/>
        </p:nvSpPr>
        <p:spPr>
          <a:xfrm>
            <a:off x="414720" y="37339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52280"/>
            <a:ext cx="3733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ot Pizza"/>
              </a:rPr>
              <a:t>max kier pharmc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ress : ramlah - al masion street- beside Bravo sup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e: 02_2966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mail:maxkierphamacy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0384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43800" y="35809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y Max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19810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219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zziness al 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64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2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990720"/>
            <a:ext cx="3733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dress : al beirah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l-kudos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wner: yosif khalid Abu- khd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el : 02_2971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58320" y="1522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r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5334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4572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724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y 24 hours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30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45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25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400"/>
                            </p:stCondLst>
                            <p:childTnLst>
                              <p:par>
                                <p:cTn id="2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900"/>
                            </p:stCondLst>
                            <p:childTnLst>
                              <p:par>
                                <p:cTn id="2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9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4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52280"/>
            <a:ext cx="290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ibertySCD"/>
              </a:rPr>
              <a:t>ramlah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ibertySCD"/>
              <a:ea typeface="LibertySCD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ddress: Ramallah – Kaddora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nager: Ail Abed-rab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 : 2982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86600" y="1219320"/>
            <a:ext cx="1701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255600" cy="54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508720" y="6337440"/>
            <a:ext cx="461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24480" y="76212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5040" y="169164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a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89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heh zaied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25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750"/>
                            </p:stCondLst>
                            <p:childTnLst>
                              <p:par>
                                <p:cTn id="3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00"/>
                            </p:stCondLst>
                            <p:childTnLst>
                              <p:par>
                                <p:cTn id="3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100"/>
                            </p:stCondLst>
                            <p:childTnLst>
                              <p:par>
                                <p:cTn id="3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100"/>
                            </p:stCondLst>
                            <p:childTnLst>
                              <p:par>
                                <p:cTn id="3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100"/>
                            </p:stCondLst>
                            <p:childTnLst>
                              <p:par>
                                <p:cTn id="3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100"/>
                            </p:stCondLst>
                            <p:childTnLst>
                              <p:par>
                                <p:cTn id="3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1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8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280" y="30492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Red crescent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1932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Address : Al beirah _ Nablus street - beside the Islamic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.O.box :36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owner : unr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el : 2400666/105/1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Fax : 24065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website 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alstinerce.o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-mail : info@palstine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8148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d crescent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3581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m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750"/>
                            </p:stCondLst>
                            <p:childTnLst>
                              <p:par>
                                <p:cTn id="4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8000"/>
                            </p:stCondLst>
                            <p:childTnLst>
                              <p:par>
                                <p:cTn id="4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125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2250"/>
                            </p:stCondLst>
                            <p:childTnLst>
                              <p:par>
                                <p:cTn id="4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3250"/>
                            </p:stCondLst>
                            <p:childTnLst>
                              <p:par>
                                <p:cTn id="4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25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54:04Z</dcterms:created>
  <dc:creator>UNRWA</dc:creator>
  <dc:description/>
  <dc:language>en-US</dc:language>
  <cp:lastModifiedBy>Bader</cp:lastModifiedBy>
  <dcterms:modified xsi:type="dcterms:W3CDTF">2007-05-29T10:19:14Z</dcterms:modified>
  <cp:revision>16</cp:revision>
  <dc:subject/>
  <dc:title>الشريحة 1</dc:title>
</cp:coreProperties>
</file>