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508-C27A-4F0A-BB50-172C0202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372-61FB-46FC-AFFB-1712F6D5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741-45DD-4E40-B90E-3675E873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99D-AA6A-4B14-8C76-49E5923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13D-5460-4C0A-9DEF-FBF703A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029-232C-4EF2-8605-4459D944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F08-B7D4-44A1-8B46-2B087EA2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CD1-B27A-4327-BC28-85238B4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73F-E13C-4F47-9A27-F18F6AA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A11-F09C-4E06-894D-E07AFDC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0D4-BE9C-4806-9516-F9BC0A1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37B-D937-4C2D-B0E3-18BAAA6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85F7-0F49-43C6-B5F4-ED3D82BB89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hyperlink" Target="http://www.palstinerce.osg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29000" y="14479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tenci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13716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Stenci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1143000"/>
            <a:ext cx="28954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Stenci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219320"/>
            <a:ext cx="289548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Stenci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Stencil"/>
              <a:ea typeface="Stenci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1447920"/>
            <a:ext cx="19051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Maiandra GD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1219320"/>
            <a:ext cx="2895840" cy="24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Ravie"/>
              </a:rPr>
              <a:t>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Ravie"/>
              <a:ea typeface="Ravie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62320" y="304920"/>
            <a:ext cx="342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orte"/>
              </a:rPr>
              <a:t>In name of alla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81480" y="31240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(2)mohanad jal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81480" y="38862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(3) qasem n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7800" y="472428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(4) ameer fan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236232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(1)hamzahram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5486400"/>
            <a:ext cx="3533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(5)eaid a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05320" y="61722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Forte"/>
              </a:rPr>
              <a:t>(6)ashraf sa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97180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Forte"/>
              </a:rPr>
              <a:t>(7)mahmmod naf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0" y="1676520"/>
            <a:ext cx="386712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names of studen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p:transition advTm="16000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6480" y="37339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aaya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51460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0200" y="495288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Crescent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438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ndalus"/>
              </a:rPr>
              <a:t>Pharmacy Max Ker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8380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adley Hand ITC"/>
              </a:rPr>
              <a:t>The name of  hospital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762120"/>
            <a:ext cx="4191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urlz MT"/>
              </a:rPr>
              <a:t>the name pharmaceutical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2" name=""/>
          <p:cNvSpPr/>
          <p:nvPr/>
        </p:nvSpPr>
        <p:spPr>
          <a:xfrm>
            <a:off x="414720" y="37339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52280"/>
            <a:ext cx="3733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ot Pizza"/>
              </a:rPr>
              <a:t>max kier pharmc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ress : ramlah - al masion street- beside Bravo sup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e: 02_2966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mail:maxkierphamacy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0384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3580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y Max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19810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219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zziness al 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64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990720"/>
            <a:ext cx="3733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: al beirah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l-kudos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wner: yosif khalid Abu- khd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l : 02_2971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8320" y="1522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 24 hou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r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334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572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724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em alsha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y 24 hours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6000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25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40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900"/>
                            </p:stCondLst>
                            <p:childTnLst>
                              <p:par>
                                <p:cTn id="2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9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52280"/>
            <a:ext cx="290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bertySCD"/>
              </a:rPr>
              <a:t>ramlah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bertySCD"/>
              <a:ea typeface="LibertySCD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ress: Ramallah – Kaddora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r: Ail Abed-rab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 : 2982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1219320"/>
            <a:ext cx="1701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25560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508720" y="6337440"/>
            <a:ext cx="461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24480" y="76212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llah Hosp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5040" y="169164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a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89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sheh zaied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25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750"/>
                            </p:stCondLst>
                            <p:childTnLst>
                              <p:par>
                                <p:cTn id="3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1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100"/>
                            </p:stCondLst>
                            <p:childTnLst>
                              <p:par>
                                <p:cTn id="3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8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30492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Red crescent hospit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1932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Address : Al beirah _ Nablus street - beside the Islamic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.O.box :36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wner : unr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el : 2400666/105/1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ax : 2406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website 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alstinerce.o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-mail : info@palstine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8148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d crescent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581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amm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225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250"/>
                            </p:stCondLst>
                            <p:childTnLst>
                              <p:par>
                                <p:cTn id="4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25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54:04Z</dcterms:created>
  <dc:creator>UNRWA</dc:creator>
  <dc:description/>
  <dc:language>en-US</dc:language>
  <cp:lastModifiedBy>Bader</cp:lastModifiedBy>
  <dcterms:modified xsi:type="dcterms:W3CDTF">2007-05-29T10:19:14Z</dcterms:modified>
  <cp:revision>16</cp:revision>
  <dc:subject/>
  <dc:title>الشريحة 1</dc:title>
</cp:coreProperties>
</file>