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E78-A6EA-4586-8056-50BCA0C2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0CF-B408-4A93-BC5E-D355D6D9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883-F8B1-49FB-B84C-2446ABE2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CA4-55C7-4180-9A3A-A2B11CEF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BE7-5C43-4DEA-90A7-61B98ACE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1FD-6966-4974-8BBF-6CB2A852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74E-FF6F-4EF7-9924-4B41D0B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74B-F0DC-45ED-B3AA-15FE93E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32C-E5BC-4B03-B414-DFEA25C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B58-CDF7-432F-921A-9A355FB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C96-1796-4767-9A50-B961F35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5E4-44B3-4433-A3D0-AC4CB87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4CC8-6F1A-46F7-8CC5-049B045DDF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In name of al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i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ress : ramlah - al masion street- beside Bravo sup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mail:maxkier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: al beirah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l-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wner: yosif khalid Abu- kh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l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4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900"/>
                            </p:stCondLst>
                            <p:childTnLst>
                              <p:par>
                                <p:cTn id="2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9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ress: Ramallah – Kaddora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r: Ail Abed-rab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25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750"/>
                            </p:stCondLst>
                            <p:childTnLst>
                              <p:par>
                                <p:cTn id="3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1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10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8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Address : Al beirah _ Nablus street - beside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.O.box 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wner : unr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el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websit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225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250"/>
                            </p:stCondLst>
                            <p:childTnLst>
                              <p:par>
                                <p:cTn id="4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25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Bader</cp:lastModifiedBy>
  <dcterms:modified xsi:type="dcterms:W3CDTF">2007-05-29T10:19:14Z</dcterms:modified>
  <cp:revision>16</cp:revision>
  <dc:subject/>
  <dc:title>الشريحة 1</dc:title>
</cp:coreProperties>
</file>