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gif" ContentType="image/gif"/>
  <Override PartName="/ppt/media/image10.png" ContentType="image/png"/>
  <Override PartName="/ppt/media/image5.png" ContentType="image/png"/>
  <Override PartName="/ppt/media/image2.gif" ContentType="image/gif"/>
  <Override PartName="/ppt/media/image12.jpeg" ContentType="image/jpeg"/>
  <Override PartName="/ppt/media/image3.jpeg" ContentType="image/jpeg"/>
  <Override PartName="/ppt/media/image4.gif" ContentType="image/gif"/>
  <Override PartName="/ppt/media/image8.png" ContentType="image/png"/>
  <Override PartName="/ppt/media/image11.jpeg" ContentType="image/jpeg"/>
  <Override PartName="/ppt/media/image7.gif" ContentType="image/gif"/>
  <Override PartName="/ppt/media/image6.gif" ContentType="image/gi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FE5F-9D01-4FDC-9848-E468A7A72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5388-9808-4060-81AB-0D8CA0325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5F82-C6A8-4D0F-A2A2-675AC19A1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F2A2-0D38-4FA0-98F8-C23169368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8DF0-0925-422F-8BFE-9BB307952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FB02-40B4-4A12-ADD1-A66C71756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ACF7-1C9F-4C33-AEB2-201720F12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429D-D70F-4E1E-A3E0-01623B5E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1597-F104-4724-98FB-3D5BC5537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FAC2-AAF5-4163-A08B-36756163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C982-6F4B-4AEB-9A80-C3B3A7D8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C0EC-77A9-4B24-9E40-4FDADA7B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E6B3A-1AE9-4EC7-AEEF-09D013404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11.jpeg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" Target="slide1.xml"/><Relationship Id="rId7" Type="http://schemas.openxmlformats.org/officeDocument/2006/relationships/image" Target="../media/image14.gif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4343400" y="3205080"/>
            <a:ext cx="457200" cy="4478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90720" cy="969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8153280" y="5888160"/>
            <a:ext cx="990720" cy="969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0" y="5029200"/>
            <a:ext cx="990720" cy="969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>
            <a:off x="0" y="3809880"/>
            <a:ext cx="990720" cy="970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7"/>
          <a:stretch/>
        </p:blipFill>
        <p:spPr>
          <a:xfrm>
            <a:off x="0" y="2590920"/>
            <a:ext cx="990720" cy="969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8"/>
          <a:stretch/>
        </p:blipFill>
        <p:spPr>
          <a:xfrm>
            <a:off x="0" y="1143000"/>
            <a:ext cx="990720" cy="969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9"/>
          <a:stretch/>
        </p:blipFill>
        <p:spPr>
          <a:xfrm>
            <a:off x="8153280" y="0"/>
            <a:ext cx="990720" cy="969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10"/>
          <a:stretch/>
        </p:blipFill>
        <p:spPr>
          <a:xfrm>
            <a:off x="8153280" y="1219320"/>
            <a:ext cx="990720" cy="969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1"/>
          <a:stretch/>
        </p:blipFill>
        <p:spPr>
          <a:xfrm>
            <a:off x="8153280" y="3352680"/>
            <a:ext cx="990720" cy="970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2"/>
          <a:stretch/>
        </p:blipFill>
        <p:spPr>
          <a:xfrm>
            <a:off x="8153280" y="4724280"/>
            <a:ext cx="990720" cy="9702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37160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students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38280"/>
            <a:ext cx="4267080" cy="63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1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- 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amer fanon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-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jehad saad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-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omar saad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- 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Malk nasar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48320" y="2097000"/>
            <a:ext cx="4495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cript MT Bold"/>
              </a:rPr>
              <a:t>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762120"/>
            <a:ext cx="518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cript MT Bold"/>
              </a:rPr>
              <a:t>Environmental treas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190600" cy="952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 flipH="1">
            <a:off x="7009920" y="228600"/>
            <a:ext cx="2133720" cy="9525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50"/>
                            </p:stCondLst>
                            <p:childTnLst>
                              <p:par>
                                <p:cTn id="1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450"/>
                            </p:stCondLst>
                            <p:childTnLst>
                              <p:par>
                                <p:cTn id="2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50"/>
                            </p:stCondLst>
                            <p:childTnLst>
                              <p:par>
                                <p:cTn id="2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791320" y="0"/>
            <a:ext cx="3352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cript MT Bold"/>
              </a:rPr>
              <a:t>First</a:t>
            </a:r>
            <a:r>
              <a:rPr b="0" lang="en-US" sz="3600" spc="-1" strike="noStrike">
                <a:solidFill>
                  <a:srgbClr val="000000"/>
                </a:solidFill>
                <a:latin typeface="Script MT Bold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cript MT Bold"/>
              </a:rPr>
              <a:t>Salem afan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782640"/>
            <a:ext cx="4648320" cy="56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wner: Salem afand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l: 240242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ress :Ramallah – Manara square – beside abdelnasir mos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rget for existence: rest welfa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718160" y="1981080"/>
            <a:ext cx="4425840" cy="4876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 flipH="1">
            <a:off x="5791320" y="0"/>
            <a:ext cx="2133360" cy="952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1295280" y="0"/>
            <a:ext cx="2286000" cy="952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7924680" y="5029200"/>
            <a:ext cx="1219320" cy="1114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3886200" y="0"/>
            <a:ext cx="838080" cy="16765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sh dir="u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300"/>
                            </p:stCondLst>
                            <p:childTnLst>
                              <p:par>
                                <p:cTn id="5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962520" y="762120"/>
            <a:ext cx="4724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Albeirah P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685800"/>
            <a:ext cx="403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838080"/>
            <a:ext cx="320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143000"/>
            <a:ext cx="3809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me: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beirah P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l: 29568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ress :Ramallah – alsa’a square – beside Alhajal hote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rget for existence: rest welfa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14800" y="1981080"/>
            <a:ext cx="5029200" cy="4876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876920" y="21337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maisa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257440" y="6095880"/>
            <a:ext cx="1522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952880" y="586728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Hotel al-haj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52880" y="6324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 flipH="1">
            <a:off x="5257440" y="0"/>
            <a:ext cx="2133720" cy="9525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762120" y="0"/>
            <a:ext cx="2286000" cy="9525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7924680" y="1981080"/>
            <a:ext cx="1219320" cy="11145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38480" y="3733920"/>
            <a:ext cx="12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park municipality al-be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867280" y="373392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Douaral al-s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push dir="u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20"/>
                            </p:stCondLst>
                            <p:childTnLst>
                              <p:par>
                                <p:cTn id="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762120"/>
            <a:ext cx="358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990720"/>
            <a:ext cx="457200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Name: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s’ad Al-tofoly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Owner: govern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Tel:2402319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Address :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lbeirah – beside Alhilal hospital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importance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rest welfare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981680" y="2209680"/>
            <a:ext cx="4162320" cy="46483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486400" y="24382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School al-bera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39625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Hospital al-helal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 flipH="1">
            <a:off x="5791320" y="0"/>
            <a:ext cx="2133360" cy="9525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295280" y="0"/>
            <a:ext cx="2286000" cy="9525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7924680" y="3657600"/>
            <a:ext cx="1219320" cy="11145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095880" y="5257800"/>
            <a:ext cx="838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Park asaad al-tofole</a:t>
            </a: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010280" y="6324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943600" y="38862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857640" y="2895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6553080" y="2285640"/>
            <a:ext cx="1526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153280" y="2209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458200" y="2895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4648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push dir="u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800"/>
                            </p:stCondLst>
                            <p:childTnLst>
                              <p:par>
                                <p:cTn id="1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7800"/>
                            </p:stCondLst>
                            <p:childTnLst>
                              <p:par>
                                <p:cTn id="11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915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965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150"/>
                            </p:stCondLst>
                            <p:childTnLst>
                              <p:par>
                                <p:cTn id="1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650"/>
                            </p:stCondLst>
                            <p:childTnLst>
                              <p:par>
                                <p:cTn id="1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1150"/>
                            </p:stCondLst>
                            <p:childTnLst>
                              <p:par>
                                <p:cTn id="1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165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2150"/>
                            </p:stCondLst>
                            <p:childTnLst>
                              <p:par>
                                <p:cTn id="1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990720"/>
            <a:ext cx="411480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me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fa Pa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wner: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ress :Ramallah – Amari camp Importanc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t welfa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72000" y="1676520"/>
            <a:ext cx="4543560" cy="5181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 flipH="1">
            <a:off x="5791320" y="0"/>
            <a:ext cx="2133360" cy="9525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1295280" y="0"/>
            <a:ext cx="2286000" cy="9525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638680" y="32767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SCOOL AM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715000" y="1828800"/>
            <a:ext cx="99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Park al-wfaa</a:t>
            </a: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610480" y="4876920"/>
            <a:ext cx="533520" cy="6094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010280" y="47242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otype Corsiva"/>
              </a:rPr>
              <a:t>Club ant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7924680" y="1981080"/>
            <a:ext cx="1219320" cy="11145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48640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7238880" y="3048120"/>
            <a:ext cx="15264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7391160" y="20574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10080" y="5867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562720" y="48769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010280" y="4952880"/>
            <a:ext cx="533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848720" y="60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229600" y="3657600"/>
            <a:ext cx="9144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410080" y="190476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4724280" y="3276720"/>
            <a:ext cx="1526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647960" y="50292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push dir="u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450"/>
                            </p:stCondLst>
                            <p:childTnLst>
                              <p:par>
                                <p:cTn id="19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3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450"/>
                            </p:stCondLst>
                            <p:childTnLst>
                              <p:par>
                                <p:cTn id="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9950"/>
                            </p:stCondLst>
                            <p:childTnLst>
                              <p:par>
                                <p:cTn id="2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450"/>
                            </p:stCondLst>
                            <p:childTnLst>
                              <p:par>
                                <p:cTn id="2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950"/>
                            </p:stCondLst>
                            <p:childTnLst>
                              <p:par>
                                <p:cTn id="2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1450"/>
                            </p:stCondLst>
                            <p:childTnLst>
                              <p:par>
                                <p:cTn id="2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195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245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2950"/>
                            </p:stCondLst>
                            <p:childTnLst>
                              <p:par>
                                <p:cTn id="2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3450"/>
                            </p:stCondLst>
                            <p:childTnLst>
                              <p:par>
                                <p:cTn id="2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3950"/>
                            </p:stCondLst>
                            <p:childTnLst>
                              <p:par>
                                <p:cTn id="2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4450"/>
                            </p:stCondLst>
                            <p:childTnLst>
                              <p:par>
                                <p:cTn id="2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4950"/>
                            </p:stCondLst>
                            <p:childTnLst>
                              <p:par>
                                <p:cTn id="26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5950"/>
                            </p:stCondLst>
                            <p:childTnLst>
                              <p:par>
                                <p:cTn id="26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6900"/>
                            </p:stCondLst>
                            <p:childTnLst>
                              <p:par>
                                <p:cTn id="27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7800"/>
                            </p:stCondLst>
                            <p:childTnLst>
                              <p:par>
                                <p:cTn id="2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95280" y="380880"/>
            <a:ext cx="69343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Script MT Bold"/>
              </a:rPr>
              <a:t>Thanx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1600200" cy="14684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 flipH="1">
            <a:off x="7238880" y="380880"/>
            <a:ext cx="1524240" cy="1468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010280" y="4038480"/>
            <a:ext cx="1828800" cy="1951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0" y="4419720"/>
            <a:ext cx="1828800" cy="1950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600200" y="62784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yes</a:t>
            </a:r>
            <a:r>
              <a:rPr b="0" lang="ar-SA" sz="3200" spc="-1" strike="noStrike">
                <a:solidFill>
                  <a:srgbClr val="000000"/>
                </a:solidFill>
                <a:latin typeface="Script MT Bold"/>
              </a:rPr>
              <a:t>                   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Script MT Bold"/>
                <a:hlinkClick r:id="rId6" action="ppaction://hlinksldjump"/>
              </a:rPr>
              <a:t>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7"/>
          <a:stretch/>
        </p:blipFill>
        <p:spPr>
          <a:xfrm>
            <a:off x="4419720" y="3124080"/>
            <a:ext cx="714240" cy="7146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sh dir="u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5T14:06:14Z</dcterms:created>
  <dc:creator>ali assaf</dc:creator>
  <dc:description/>
  <dc:language>en-US</dc:language>
  <cp:lastModifiedBy>Bader</cp:lastModifiedBy>
  <dcterms:modified xsi:type="dcterms:W3CDTF">2007-05-29T10:45:08Z</dcterms:modified>
  <cp:revision>11</cp:revision>
  <dc:subject/>
  <dc:title>الشريحة 1</dc:title>
</cp:coreProperties>
</file>