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1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7.gif" ContentType="image/gif"/>
  <Override PartName="/ppt/media/image6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5C5-F442-4D3F-80CA-B575B8E6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4E13-DCED-4AEC-9ED4-EB4719D8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558-F244-44C5-8185-973FF665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8EAE-FB17-407F-9667-4FE1674A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6F5-4768-40EF-8920-8576A601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ADD-8969-447A-82FB-0BA00C44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8EF1-9F40-44C4-8D2E-F2A0EFCA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5C70-B4AD-47AF-AE88-7E7F526A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CE8-4215-4036-8779-D769207D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5100-8B31-4678-92F4-4B27BB7F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597-796D-4496-BF9D-0CC17137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596-CC65-44FF-ACCD-433C99A2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FB36-95C4-481E-A0C0-91A12CB0D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1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" Target="slide1.xml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343400" y="3205080"/>
            <a:ext cx="457200" cy="447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8153280" y="588816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50292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0" y="38098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0" y="25909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0" y="11430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815328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8153280" y="12193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8153280" y="33526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8153280" y="4724280"/>
            <a:ext cx="990720" cy="970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3716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students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38280"/>
            <a:ext cx="426708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amer fanon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jehad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omar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Malk nasar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2097000"/>
            <a:ext cx="4495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7621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Environmental tr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19060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flipH="1">
            <a:off x="7009920" y="228600"/>
            <a:ext cx="2133720" cy="952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5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5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5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791320" y="0"/>
            <a:ext cx="3352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First</a:t>
            </a: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Salem af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82640"/>
            <a:ext cx="46483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wner: Salem afan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40242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Manara square – beside abdelnasir mo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18160" y="1981080"/>
            <a:ext cx="4425840" cy="487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924680" y="5029200"/>
            <a:ext cx="1219320" cy="111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886200" y="0"/>
            <a:ext cx="838080" cy="16765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30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62520" y="762120"/>
            <a:ext cx="4724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Albeirah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80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143000"/>
            <a:ext cx="3809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beirah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9568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alsa’a square – beside Alhajal hot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876920" y="2133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mais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57440" y="609588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5867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tel al-haj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6324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flipH="1">
            <a:off x="5257440" y="0"/>
            <a:ext cx="213372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6212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37339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municipality al-be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3733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Douaral al-s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2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7621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990720"/>
            <a:ext cx="45720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’ad Al-tofol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l:2402319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ddress 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beirah – beside Alhilal hospita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mportanc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981680" y="2209680"/>
            <a:ext cx="4162320" cy="4648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86400" y="2438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School al-bera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39625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spital al-helal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924680" y="365760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5880" y="5257800"/>
            <a:ext cx="83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asaad al-tofole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38862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85764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6553080" y="22856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45820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8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800"/>
                            </p:stCondLst>
                            <p:childTnLst>
                              <p:par>
                                <p:cTn id="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15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65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15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65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115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165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15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90720"/>
            <a:ext cx="41148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fa 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:Ramallah – Amari camp Importa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543560" cy="5181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638680" y="3276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SCOOL A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1828800"/>
            <a:ext cx="99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Park al-wfaa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10480" y="4876920"/>
            <a:ext cx="53352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4724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Club a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8640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238880" y="3048120"/>
            <a:ext cx="1526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391160" y="2057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867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9528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36576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410080" y="1904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5029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45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45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95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45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95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45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95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45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295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45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95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45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950"/>
                            </p:stCondLst>
                            <p:childTnLst>
                              <p:par>
                                <p:cTn id="2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950"/>
                            </p:stCondLst>
                            <p:childTnLst>
                              <p:par>
                                <p:cTn id="2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6900"/>
                            </p:stCondLst>
                            <p:childTnLst>
                              <p:par>
                                <p:cTn id="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78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380880"/>
            <a:ext cx="69343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Script MT Bold"/>
              </a:rPr>
              <a:t>Than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600200" cy="1468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 flipH="1">
            <a:off x="7238880" y="380880"/>
            <a:ext cx="1524240" cy="1468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010280" y="4038480"/>
            <a:ext cx="1828800" cy="1951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0" y="4419720"/>
            <a:ext cx="1828800" cy="195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6278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yes</a:t>
            </a:r>
            <a:r>
              <a:rPr b="0" lang="ar-SA" sz="3200" spc="-1" strike="noStrike">
                <a:solidFill>
                  <a:srgbClr val="000000"/>
                </a:solidFill>
                <a:latin typeface="Script MT Bold"/>
              </a:rPr>
              <a:t>      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Script MT Bold"/>
                <a:hlinkClick r:id="rId6" action="ppaction://hlinksldjump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4419720" y="31240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4:06:14Z</dcterms:created>
  <dc:creator>ali assaf</dc:creator>
  <dc:description/>
  <dc:language>en-US</dc:language>
  <cp:lastModifiedBy>Bader</cp:lastModifiedBy>
  <dcterms:modified xsi:type="dcterms:W3CDTF">2007-05-29T10:45:08Z</dcterms:modified>
  <cp:revision>11</cp:revision>
  <dc:subject/>
  <dc:title>الشريحة 1</dc:title>
</cp:coreProperties>
</file>