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gif" ContentType="image/gif"/>
  <Override PartName="/ppt/media/image10.png" ContentType="image/png"/>
  <Override PartName="/ppt/media/image5.png" ContentType="image/png"/>
  <Override PartName="/ppt/media/image2.gif" ContentType="image/gif"/>
  <Override PartName="/ppt/media/image12.jpeg" ContentType="image/jpeg"/>
  <Override PartName="/ppt/media/image3.jpeg" ContentType="image/jpeg"/>
  <Override PartName="/ppt/media/image4.gif" ContentType="image/gif"/>
  <Override PartName="/ppt/media/image8.png" ContentType="image/png"/>
  <Override PartName="/ppt/media/image11.jpeg" ContentType="image/jpeg"/>
  <Override PartName="/ppt/media/image7.gif" ContentType="image/gif"/>
  <Override PartName="/ppt/media/image6.gif" ContentType="image/gif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7CC77-E2AE-4186-8902-01B66BD03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F00D6-626A-47CD-9063-FD3072341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C47DE-70C1-470E-88B5-CC6F3A4E2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11CDF-DF11-419A-8EC8-28DD627D6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6F836-D520-4CA5-B5FC-074219372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044E9-D2A1-4787-A264-E61B8FA6A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0B083-D92E-4F24-B94F-D8A62D9CC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DC8BB-ED14-44DC-AEA1-00AEEF9B3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E796F-54BA-4B59-9885-331445D6C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B8C29-9047-4835-8BA6-97BF0525D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FC64B-918E-4418-85FF-C08A28A8D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3C3DB-A6E8-4D9C-AC4E-37ED30323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83CFD-054C-4566-980B-B81E5C7D12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image" Target="../media/image2.gif"/><Relationship Id="rId10" Type="http://schemas.openxmlformats.org/officeDocument/2006/relationships/image" Target="../media/image2.gif"/><Relationship Id="rId11" Type="http://schemas.openxmlformats.org/officeDocument/2006/relationships/image" Target="../media/image2.gif"/><Relationship Id="rId12" Type="http://schemas.openxmlformats.org/officeDocument/2006/relationships/image" Target="../media/image2.gif"/><Relationship Id="rId1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image" Target="../media/image6.gif"/><Relationship Id="rId6" Type="http://schemas.openxmlformats.org/officeDocument/2006/relationships/image" Target="../media/image7.gif"/><Relationship Id="rId7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png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image" Target="../media/image6.gif"/><Relationship Id="rId6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9.png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image" Target="../media/image6.gif"/><Relationship Id="rId6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0.png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image" Target="../media/image11.jpeg"/><Relationship Id="rId6" Type="http://schemas.openxmlformats.org/officeDocument/2006/relationships/image" Target="../media/image6.gif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gif"/><Relationship Id="rId3" Type="http://schemas.openxmlformats.org/officeDocument/2006/relationships/image" Target="../media/image13.gif"/><Relationship Id="rId4" Type="http://schemas.openxmlformats.org/officeDocument/2006/relationships/image" Target="../media/image6.gif"/><Relationship Id="rId5" Type="http://schemas.openxmlformats.org/officeDocument/2006/relationships/image" Target="../media/image6.gif"/><Relationship Id="rId6" Type="http://schemas.openxmlformats.org/officeDocument/2006/relationships/slide" Target="slide1.xml"/><Relationship Id="rId7" Type="http://schemas.openxmlformats.org/officeDocument/2006/relationships/image" Target="../media/image14.gif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4343400" y="3205080"/>
            <a:ext cx="457200" cy="44784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90720" cy="9698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4"/>
          <a:stretch/>
        </p:blipFill>
        <p:spPr>
          <a:xfrm>
            <a:off x="8153280" y="5888160"/>
            <a:ext cx="990720" cy="9698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5"/>
          <a:stretch/>
        </p:blipFill>
        <p:spPr>
          <a:xfrm>
            <a:off x="0" y="5029200"/>
            <a:ext cx="990720" cy="9698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6"/>
          <a:stretch/>
        </p:blipFill>
        <p:spPr>
          <a:xfrm>
            <a:off x="0" y="3809880"/>
            <a:ext cx="990720" cy="9702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7"/>
          <a:stretch/>
        </p:blipFill>
        <p:spPr>
          <a:xfrm>
            <a:off x="0" y="2590920"/>
            <a:ext cx="990720" cy="9698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8"/>
          <a:stretch/>
        </p:blipFill>
        <p:spPr>
          <a:xfrm>
            <a:off x="0" y="1143000"/>
            <a:ext cx="990720" cy="9698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9"/>
          <a:stretch/>
        </p:blipFill>
        <p:spPr>
          <a:xfrm>
            <a:off x="8153280" y="0"/>
            <a:ext cx="990720" cy="9698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10"/>
          <a:stretch/>
        </p:blipFill>
        <p:spPr>
          <a:xfrm>
            <a:off x="8153280" y="1219320"/>
            <a:ext cx="990720" cy="9698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11"/>
          <a:stretch/>
        </p:blipFill>
        <p:spPr>
          <a:xfrm>
            <a:off x="8153280" y="3352680"/>
            <a:ext cx="990720" cy="9702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12"/>
          <a:stretch/>
        </p:blipFill>
        <p:spPr>
          <a:xfrm>
            <a:off x="8153280" y="4724280"/>
            <a:ext cx="990720" cy="9702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randomBa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371600"/>
            <a:ext cx="4876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cript MT Bold"/>
              </a:rPr>
              <a:t>students</a:t>
            </a:r>
            <a:r>
              <a:rPr b="0" lang="en-US" sz="4800" spc="-1" strike="noStrike">
                <a:solidFill>
                  <a:srgbClr val="000000"/>
                </a:solidFill>
                <a:latin typeface="Script MT Bold"/>
              </a:rPr>
              <a:t>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2438280"/>
            <a:ext cx="4267080" cy="635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cript MT Bold"/>
              </a:rPr>
              <a:t>1</a:t>
            </a:r>
            <a:r>
              <a:rPr b="0" lang="en-US" sz="4800" spc="-1" strike="noStrike">
                <a:solidFill>
                  <a:srgbClr val="000000"/>
                </a:solidFill>
                <a:latin typeface="Script MT Bold"/>
              </a:rPr>
              <a:t>- </a:t>
            </a:r>
            <a:r>
              <a:rPr b="0" lang="en-US" sz="4800" spc="-1" strike="noStrike">
                <a:solidFill>
                  <a:srgbClr val="000000"/>
                </a:solidFill>
                <a:latin typeface="Script MT Bold"/>
              </a:rPr>
              <a:t>amer fanon</a:t>
            </a:r>
            <a:r>
              <a:rPr b="0" lang="en-US" sz="4800" spc="-1" strike="noStrike">
                <a:solidFill>
                  <a:srgbClr val="000000"/>
                </a:solidFill>
                <a:latin typeface="Script MT Bold"/>
              </a:rPr>
              <a:t>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cript MT Bold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Script MT Bold"/>
              </a:rPr>
              <a:t>-</a:t>
            </a:r>
            <a:r>
              <a:rPr b="0" lang="en-US" sz="4800" spc="-1" strike="noStrike">
                <a:solidFill>
                  <a:srgbClr val="000000"/>
                </a:solidFill>
                <a:latin typeface="Script MT Bold"/>
              </a:rPr>
              <a:t>jehad saad</a:t>
            </a:r>
            <a:r>
              <a:rPr b="0" lang="en-US" sz="4800" spc="-1" strike="noStrike">
                <a:solidFill>
                  <a:srgbClr val="000000"/>
                </a:solidFill>
                <a:latin typeface="Script MT Bold"/>
              </a:rPr>
              <a:t>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cript MT Bold"/>
              </a:rPr>
              <a:t>3</a:t>
            </a:r>
            <a:r>
              <a:rPr b="0" lang="en-US" sz="4800" spc="-1" strike="noStrike">
                <a:solidFill>
                  <a:srgbClr val="000000"/>
                </a:solidFill>
                <a:latin typeface="Script MT Bold"/>
              </a:rPr>
              <a:t>-</a:t>
            </a:r>
            <a:r>
              <a:rPr b="0" lang="en-US" sz="4800" spc="-1" strike="noStrike">
                <a:solidFill>
                  <a:srgbClr val="000000"/>
                </a:solidFill>
                <a:latin typeface="Script MT Bold"/>
              </a:rPr>
              <a:t>omar saad</a:t>
            </a:r>
            <a:r>
              <a:rPr b="0" lang="en-US" sz="4800" spc="-1" strike="noStrike">
                <a:solidFill>
                  <a:srgbClr val="000000"/>
                </a:solidFill>
                <a:latin typeface="Script MT Bold"/>
              </a:rPr>
              <a:t> 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cript MT Bold"/>
              </a:rPr>
              <a:t>4</a:t>
            </a:r>
            <a:r>
              <a:rPr b="0" lang="en-US" sz="4800" spc="-1" strike="noStrike">
                <a:solidFill>
                  <a:srgbClr val="000000"/>
                </a:solidFill>
                <a:latin typeface="Script MT Bold"/>
              </a:rPr>
              <a:t>- </a:t>
            </a:r>
            <a:r>
              <a:rPr b="0" lang="en-US" sz="4800" spc="-1" strike="noStrike">
                <a:solidFill>
                  <a:srgbClr val="000000"/>
                </a:solidFill>
                <a:latin typeface="Script MT Bold"/>
              </a:rPr>
              <a:t>Malk nasar</a:t>
            </a:r>
            <a:r>
              <a:rPr b="0" lang="en-US" sz="4800" spc="-1" strike="noStrike">
                <a:solidFill>
                  <a:srgbClr val="000000"/>
                </a:solidFill>
                <a:latin typeface="Script MT Bold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48320" y="2097000"/>
            <a:ext cx="44956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Script MT Bold"/>
              </a:rPr>
              <a:t>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981080" y="762120"/>
            <a:ext cx="5181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Script MT Bold"/>
              </a:rPr>
              <a:t>Environmental treas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190600" cy="9525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 flipH="1">
            <a:off x="7009920" y="228600"/>
            <a:ext cx="2133720" cy="95256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push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550"/>
                            </p:stCondLst>
                            <p:childTnLst>
                              <p:par>
                                <p:cTn id="1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450"/>
                            </p:stCondLst>
                            <p:childTnLst>
                              <p:par>
                                <p:cTn id="2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50"/>
                            </p:stCondLst>
                            <p:childTnLst>
                              <p:par>
                                <p:cTn id="2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5791320" y="0"/>
            <a:ext cx="33526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Script MT Bold"/>
              </a:rPr>
              <a:t>First</a:t>
            </a:r>
            <a:r>
              <a:rPr b="0" lang="en-US" sz="3600" spc="-1" strike="noStrike">
                <a:solidFill>
                  <a:srgbClr val="000000"/>
                </a:solidFill>
                <a:latin typeface="Script MT Bold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Script MT Bold"/>
              </a:rPr>
              <a:t>Salem afan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0" y="782640"/>
            <a:ext cx="4648320" cy="56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wner: Salem afand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l: 2402424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ress :Ramallah – Manara square – beside abdelnasir mos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arget for existence: rest welfar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4718160" y="1981080"/>
            <a:ext cx="4425840" cy="48769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 flipH="1">
            <a:off x="5791320" y="0"/>
            <a:ext cx="2133360" cy="9525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1295280" y="0"/>
            <a:ext cx="2286000" cy="9525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7924680" y="5029200"/>
            <a:ext cx="1219320" cy="11145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6"/>
          <a:stretch/>
        </p:blipFill>
        <p:spPr>
          <a:xfrm>
            <a:off x="3886200" y="0"/>
            <a:ext cx="838080" cy="167652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push dir="u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2000"/>
                            </p:stCondLst>
                            <p:childTnLst>
                              <p:par>
                                <p:cTn id="4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3300"/>
                            </p:stCondLst>
                            <p:childTnLst>
                              <p:par>
                                <p:cTn id="5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962520" y="762120"/>
            <a:ext cx="47242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cript MT Bold"/>
              </a:rPr>
              <a:t>Albeirah Pa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685800"/>
            <a:ext cx="4038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838080"/>
            <a:ext cx="3200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1143000"/>
            <a:ext cx="38098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ame: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beirah Pa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l: 295683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ress :Ramallah – alsa’a square – beside Alhajal hotel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arget for existence: rest welfar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4114800" y="1981080"/>
            <a:ext cx="5029200" cy="48769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4876920" y="2133720"/>
            <a:ext cx="12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Monotype Corsiva"/>
              </a:rPr>
              <a:t>maisar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5257440" y="6095880"/>
            <a:ext cx="1522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952880" y="5867280"/>
            <a:ext cx="99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Monotype Corsiva"/>
              </a:rPr>
              <a:t>Hotel al-haj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952880" y="6324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 flipH="1">
            <a:off x="5257440" y="0"/>
            <a:ext cx="2133720" cy="95256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4"/>
          <a:stretch/>
        </p:blipFill>
        <p:spPr>
          <a:xfrm>
            <a:off x="762120" y="0"/>
            <a:ext cx="2286000" cy="95256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5"/>
          <a:stretch/>
        </p:blipFill>
        <p:spPr>
          <a:xfrm>
            <a:off x="7924680" y="1981080"/>
            <a:ext cx="1219320" cy="111456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4038480" y="3733920"/>
            <a:ext cx="129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Monotype Corsiva"/>
              </a:rPr>
              <a:t>park municipality al-be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867280" y="3733920"/>
            <a:ext cx="106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Monotype Corsiva"/>
              </a:rPr>
              <a:t>Douaral al-sa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5000">
    <p:push dir="u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520"/>
                            </p:stCondLst>
                            <p:childTnLst>
                              <p:par>
                                <p:cTn id="6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6" dur="5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762120"/>
            <a:ext cx="3581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0" y="990720"/>
            <a:ext cx="4572000" cy="41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Name: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Is’ad Al-tofoly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Owner: governmen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Tel:2402319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Address :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Albeirah – beside Alhilal hospital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importance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rest welfare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4981680" y="2209680"/>
            <a:ext cx="4162320" cy="464832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5486400" y="2438280"/>
            <a:ext cx="106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Monotype Corsiva"/>
              </a:rPr>
              <a:t>School al-bera</a:t>
            </a:r>
            <a:r>
              <a:rPr b="1" lang="en-US" sz="1800" spc="-1" strike="noStrike">
                <a:solidFill>
                  <a:srgbClr val="ffffff"/>
                </a:solidFill>
                <a:latin typeface="Monotype Corsiv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867280" y="3962520"/>
            <a:ext cx="914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Monotype Corsiva"/>
              </a:rPr>
              <a:t>Hospital al-helal</a:t>
            </a: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 flipH="1">
            <a:off x="5791320" y="0"/>
            <a:ext cx="2133360" cy="95256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4"/>
          <a:stretch/>
        </p:blipFill>
        <p:spPr>
          <a:xfrm>
            <a:off x="1295280" y="0"/>
            <a:ext cx="2286000" cy="95256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5"/>
          <a:stretch/>
        </p:blipFill>
        <p:spPr>
          <a:xfrm>
            <a:off x="7924680" y="3657600"/>
            <a:ext cx="1219320" cy="111456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6095880" y="5257800"/>
            <a:ext cx="838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Monotype Corsiva"/>
              </a:rPr>
              <a:t>Park asaad al-tofole</a:t>
            </a:r>
            <a:r>
              <a:rPr b="1" lang="en-US" sz="18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010280" y="6324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943600" y="388620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6857640" y="2895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 flipV="1">
            <a:off x="6553080" y="2285640"/>
            <a:ext cx="1526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8153280" y="2209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458200" y="2895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46483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5000">
    <p:push dir="u"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800"/>
                            </p:stCondLst>
                            <p:childTnLst>
                              <p:par>
                                <p:cTn id="11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4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7800"/>
                            </p:stCondLst>
                            <p:childTnLst>
                              <p:par>
                                <p:cTn id="11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9150"/>
                            </p:stCondLst>
                            <p:childTnLst>
                              <p:par>
                                <p:cTn id="13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9650"/>
                            </p:stCondLst>
                            <p:childTnLst>
                              <p:par>
                                <p:cTn id="1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10150"/>
                            </p:stCondLst>
                            <p:childTnLst>
                              <p:par>
                                <p:cTn id="15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10650"/>
                            </p:stCondLst>
                            <p:childTnLst>
                              <p:par>
                                <p:cTn id="15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1150"/>
                            </p:stCondLst>
                            <p:childTnLst>
                              <p:par>
                                <p:cTn id="16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1650"/>
                            </p:stCondLst>
                            <p:childTnLst>
                              <p:par>
                                <p:cTn id="16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2150"/>
                            </p:stCondLst>
                            <p:childTnLst>
                              <p:par>
                                <p:cTn id="17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533520"/>
            <a:ext cx="2743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990720"/>
            <a:ext cx="4114800" cy="42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ame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wafa Par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wner: gover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dress :Ramallah – Amari camp Importanc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st welfar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572000" y="1676520"/>
            <a:ext cx="4543560" cy="51814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 flipH="1">
            <a:off x="5791320" y="0"/>
            <a:ext cx="2133360" cy="95256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4"/>
          <a:stretch/>
        </p:blipFill>
        <p:spPr>
          <a:xfrm>
            <a:off x="1295280" y="0"/>
            <a:ext cx="2286000" cy="9525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5638680" y="327672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Monotype Corsiva"/>
              </a:rPr>
              <a:t>SCOOL AM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715000" y="1828800"/>
            <a:ext cx="990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Monotype Corsiva"/>
              </a:rPr>
              <a:t>Park al-wfaa</a:t>
            </a:r>
            <a:r>
              <a:rPr b="1" lang="en-US" sz="20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610480" y="4876920"/>
            <a:ext cx="533520" cy="6094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010280" y="4724280"/>
            <a:ext cx="16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Monotype Corsiva"/>
              </a:rPr>
              <a:t>Club ant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6"/>
          <a:stretch/>
        </p:blipFill>
        <p:spPr>
          <a:xfrm>
            <a:off x="7924680" y="1981080"/>
            <a:ext cx="1219320" cy="111456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5486400" y="41911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7238880" y="3048120"/>
            <a:ext cx="15264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 flipV="1">
            <a:off x="7391160" y="205740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410080" y="58672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562720" y="487692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010280" y="4952880"/>
            <a:ext cx="53352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848720" y="60958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8229600" y="3657600"/>
            <a:ext cx="9144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5410080" y="190476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H="1" flipV="1">
            <a:off x="4724280" y="3276720"/>
            <a:ext cx="15264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4647960" y="502920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5000">
    <p:push dir="u"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4450"/>
                            </p:stCondLst>
                            <p:childTnLst>
                              <p:par>
                                <p:cTn id="19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3" dur="5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450"/>
                            </p:stCondLst>
                            <p:childTnLst>
                              <p:par>
                                <p:cTn id="19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9950"/>
                            </p:stCondLst>
                            <p:childTnLst>
                              <p:par>
                                <p:cTn id="20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10450"/>
                            </p:stCondLst>
                            <p:childTnLst>
                              <p:par>
                                <p:cTn id="20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0950"/>
                            </p:stCondLst>
                            <p:childTnLst>
                              <p:par>
                                <p:cTn id="21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1450"/>
                            </p:stCondLst>
                            <p:childTnLst>
                              <p:par>
                                <p:cTn id="21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1950"/>
                            </p:stCondLst>
                            <p:childTnLst>
                              <p:par>
                                <p:cTn id="22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12450"/>
                            </p:stCondLst>
                            <p:childTnLst>
                              <p:par>
                                <p:cTn id="2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2950"/>
                            </p:stCondLst>
                            <p:childTnLst>
                              <p:par>
                                <p:cTn id="23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13450"/>
                            </p:stCondLst>
                            <p:childTnLst>
                              <p:par>
                                <p:cTn id="24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13950"/>
                            </p:stCondLst>
                            <p:childTnLst>
                              <p:par>
                                <p:cTn id="2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4450"/>
                            </p:stCondLst>
                            <p:childTnLst>
                              <p:par>
                                <p:cTn id="25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4950"/>
                            </p:stCondLst>
                            <p:childTnLst>
                              <p:par>
                                <p:cTn id="26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15950"/>
                            </p:stCondLst>
                            <p:childTnLst>
                              <p:par>
                                <p:cTn id="26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16900"/>
                            </p:stCondLst>
                            <p:childTnLst>
                              <p:par>
                                <p:cTn id="27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17800"/>
                            </p:stCondLst>
                            <p:childTnLst>
                              <p:par>
                                <p:cTn id="28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7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295280" y="380880"/>
            <a:ext cx="693432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Script MT Bold"/>
              </a:rPr>
              <a:t>Thanx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457200" y="228600"/>
            <a:ext cx="1600200" cy="14684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 flipH="1">
            <a:off x="7238880" y="380880"/>
            <a:ext cx="1524240" cy="14684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010280" y="4038480"/>
            <a:ext cx="1828800" cy="1951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0" y="4419720"/>
            <a:ext cx="1828800" cy="195084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1600200" y="6278400"/>
            <a:ext cx="548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cript MT Bold"/>
              </a:rPr>
              <a:t>yes</a:t>
            </a:r>
            <a:r>
              <a:rPr b="0" lang="ar-SA" sz="3200" spc="-1" strike="noStrike">
                <a:solidFill>
                  <a:srgbClr val="000000"/>
                </a:solidFill>
                <a:latin typeface="Script MT Bold"/>
              </a:rPr>
              <a:t>                      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Script MT Bold"/>
                <a:hlinkClick r:id="rId6" action="ppaction://hlinksldjump"/>
              </a:rPr>
              <a:t>n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7"/>
          <a:stretch/>
        </p:blipFill>
        <p:spPr>
          <a:xfrm>
            <a:off x="4419720" y="3124080"/>
            <a:ext cx="714240" cy="71460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push dir="u"/>
  </p:transition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2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2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2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2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2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2000"/>
                            </p:stCondLst>
                            <p:childTnLst>
                              <p:par>
                                <p:cTn id="30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2" dur="8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3" dur="8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4" dur="8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5T14:06:14Z</dcterms:created>
  <dc:creator>ali assaf</dc:creator>
  <dc:description/>
  <dc:language>en-US</dc:language>
  <cp:lastModifiedBy>Bader</cp:lastModifiedBy>
  <dcterms:modified xsi:type="dcterms:W3CDTF">2007-05-29T10:45:08Z</dcterms:modified>
  <cp:revision>11</cp:revision>
  <dc:subject/>
  <dc:title>الشريحة 1</dc:title>
</cp:coreProperties>
</file>