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gif" ContentType="image/gif"/>
  <Override PartName="/ppt/media/image10.png" ContentType="image/png"/>
  <Override PartName="/ppt/media/image5.png" ContentType="image/png"/>
  <Override PartName="/ppt/media/image2.gif" ContentType="image/gif"/>
  <Override PartName="/ppt/media/image12.jpeg" ContentType="image/jpeg"/>
  <Override PartName="/ppt/media/image3.jpeg" ContentType="image/jpeg"/>
  <Override PartName="/ppt/media/image4.gif" ContentType="image/gif"/>
  <Override PartName="/ppt/media/image8.png" ContentType="image/png"/>
  <Override PartName="/ppt/media/image11.jpeg" ContentType="image/jpeg"/>
  <Override PartName="/ppt/media/image7.gif" ContentType="image/gif"/>
  <Override PartName="/ppt/media/image6.gif" ContentType="image/gi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08A1-225A-4FCB-A604-8DE8ADA87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9DD2-60B7-4CFF-8660-B3C04BA9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ABB7-9F9A-4C74-A2CA-350C73FB4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56A5-2024-4CC3-859B-786B23DD5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850F-B6C9-4342-84F4-0130CD39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0BE6-1B50-4C5B-A9CF-F3DF8C7C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94E1-3DA2-475D-A611-DE8D4490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75D2-C1CD-4167-95EE-B2D980D6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0FB4-D771-42F3-8152-1C1A57AE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911B-86C1-40E1-9348-D91CFE89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6524-F407-4B61-8F94-4C694A79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8BCF-1A3A-4801-838D-9BDC63D6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01B0-2483-4043-A883-85EE388A2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11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" Target="slide1.xml"/><Relationship Id="rId7" Type="http://schemas.openxmlformats.org/officeDocument/2006/relationships/image" Target="../media/image14.gif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343400" y="3205080"/>
            <a:ext cx="457200" cy="4478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8153280" y="588816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0" y="502920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0" y="3809880"/>
            <a:ext cx="990720" cy="970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0" y="259092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0" y="114300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>
            <a:off x="8153280" y="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0"/>
          <a:stretch/>
        </p:blipFill>
        <p:spPr>
          <a:xfrm>
            <a:off x="8153280" y="121932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1"/>
          <a:stretch/>
        </p:blipFill>
        <p:spPr>
          <a:xfrm>
            <a:off x="8153280" y="3352680"/>
            <a:ext cx="990720" cy="970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2"/>
          <a:stretch/>
        </p:blipFill>
        <p:spPr>
          <a:xfrm>
            <a:off x="8153280" y="4724280"/>
            <a:ext cx="990720" cy="970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37160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students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38280"/>
            <a:ext cx="4267080" cy="63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1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- 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amer fanon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-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jehad saad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-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omar saad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- 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Malk nasar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2097000"/>
            <a:ext cx="4495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76212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Environmental trea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190600" cy="952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 flipH="1">
            <a:off x="7009920" y="228600"/>
            <a:ext cx="2133720" cy="9525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5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450"/>
                            </p:stCondLst>
                            <p:childTnLst>
                              <p:par>
                                <p:cTn id="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50"/>
                            </p:stCondLst>
                            <p:childTnLst>
                              <p:par>
                                <p:cTn id="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791320" y="0"/>
            <a:ext cx="3352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First</a:t>
            </a: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Salem afa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782640"/>
            <a:ext cx="464832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wner: Salem afand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: 240242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ress :Ramallah – Manara square – beside abdelnasir mos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rget for existence: rest welf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718160" y="1981080"/>
            <a:ext cx="4425840" cy="4876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 flipH="1">
            <a:off x="5791320" y="0"/>
            <a:ext cx="2133360" cy="952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295280" y="0"/>
            <a:ext cx="2286000" cy="952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7924680" y="5029200"/>
            <a:ext cx="1219320" cy="1114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3886200" y="0"/>
            <a:ext cx="838080" cy="16765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300"/>
                            </p:stCondLst>
                            <p:childTnLst>
                              <p:par>
                                <p:cTn id="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962520" y="762120"/>
            <a:ext cx="4724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Albeirah P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858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83808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143000"/>
            <a:ext cx="3809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: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beirah P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: 29568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ress :Ramallah – alsa’a square – beside Alhajal hote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rget for existence: rest welf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14800" y="1981080"/>
            <a:ext cx="5029200" cy="4876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876920" y="21337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maisa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257440" y="6095880"/>
            <a:ext cx="1522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52880" y="586728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Hotel al-haj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6324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 flipH="1">
            <a:off x="5257440" y="0"/>
            <a:ext cx="2133720" cy="952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762120" y="0"/>
            <a:ext cx="2286000" cy="952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7924680" y="1981080"/>
            <a:ext cx="1219320" cy="1114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8480" y="3733920"/>
            <a:ext cx="12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park municipality al-be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67280" y="373392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Douaral al-s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ush dir="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2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762120"/>
            <a:ext cx="358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990720"/>
            <a:ext cx="457200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Name: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’ad Al-tofoly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Owner: gover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el:2402319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ddress :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lbeirah – beside Alhilal hospital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importance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rest welfare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981680" y="2209680"/>
            <a:ext cx="4162320" cy="46483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486400" y="24382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School al-bera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39625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Hospital al-helal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 flipH="1">
            <a:off x="5791320" y="0"/>
            <a:ext cx="2133360" cy="952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295280" y="0"/>
            <a:ext cx="2286000" cy="952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7924680" y="3657600"/>
            <a:ext cx="1219320" cy="1114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095880" y="5257800"/>
            <a:ext cx="838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Park asaad al-tofole</a:t>
            </a: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10280" y="6324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43600" y="38862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85764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6553080" y="228564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153280" y="2209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45820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4648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ush dir="u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800"/>
                            </p:stCondLst>
                            <p:childTnLst>
                              <p:par>
                                <p:cTn id="1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7800"/>
                            </p:stCondLst>
                            <p:childTnLst>
                              <p:par>
                                <p:cTn id="1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915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965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15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65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115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165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215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990720"/>
            <a:ext cx="411480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m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fa Pa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wner: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ress :Ramallah – Amari camp Importan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t welfa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0" y="1676520"/>
            <a:ext cx="4543560" cy="5181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 flipH="1">
            <a:off x="5791320" y="0"/>
            <a:ext cx="2133360" cy="952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295280" y="0"/>
            <a:ext cx="2286000" cy="952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638680" y="32767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SCOOL AM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1828800"/>
            <a:ext cx="99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Park al-wfaa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610480" y="4876920"/>
            <a:ext cx="533520" cy="609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10280" y="47242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otype Corsiva"/>
              </a:rPr>
              <a:t>Club an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7924680" y="1981080"/>
            <a:ext cx="1219320" cy="1114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48640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238880" y="3048120"/>
            <a:ext cx="1526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7391160" y="20574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5867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4876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10280" y="495288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848720" y="60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29600" y="365760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410080" y="19047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4724280" y="32767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647960" y="50292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ush dir="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450"/>
                            </p:stCondLst>
                            <p:childTnLst>
                              <p:par>
                                <p:cTn id="1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45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995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45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95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145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195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245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295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345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395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4450"/>
                            </p:stCondLst>
                            <p:childTnLst>
                              <p:par>
                                <p:cTn id="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4950"/>
                            </p:stCondLst>
                            <p:childTnLst>
                              <p:par>
                                <p:cTn id="2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950"/>
                            </p:stCondLst>
                            <p:childTnLst>
                              <p:par>
                                <p:cTn id="2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6900"/>
                            </p:stCondLst>
                            <p:childTnLst>
                              <p:par>
                                <p:cTn id="2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7800"/>
                            </p:stCondLst>
                            <p:childTnLst>
                              <p:par>
                                <p:cTn id="2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380880"/>
            <a:ext cx="69343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Script MT Bold"/>
              </a:rPr>
              <a:t>Thanx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1600200" cy="1468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 flipH="1">
            <a:off x="7238880" y="380880"/>
            <a:ext cx="1524240" cy="1468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010280" y="4038480"/>
            <a:ext cx="1828800" cy="1951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0" y="4419720"/>
            <a:ext cx="1828800" cy="1950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600200" y="62784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yes</a:t>
            </a:r>
            <a:r>
              <a:rPr b="0" lang="ar-SA" sz="3200" spc="-1" strike="noStrike">
                <a:solidFill>
                  <a:srgbClr val="000000"/>
                </a:solidFill>
                <a:latin typeface="Script MT Bold"/>
              </a:rPr>
              <a:t>      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Script MT Bold"/>
                <a:hlinkClick r:id="rId6" action="ppaction://hlinksldjump"/>
              </a:rPr>
              <a:t>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4419720" y="3124080"/>
            <a:ext cx="714240" cy="7146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u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14:06:14Z</dcterms:created>
  <dc:creator>ali assaf</dc:creator>
  <dc:description/>
  <dc:language>en-US</dc:language>
  <cp:lastModifiedBy>Bader</cp:lastModifiedBy>
  <dcterms:modified xsi:type="dcterms:W3CDTF">2007-05-29T10:45:08Z</dcterms:modified>
  <cp:revision>11</cp:revision>
  <dc:subject/>
  <dc:title>الشريحة 1</dc:title>
</cp:coreProperties>
</file>