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7.gif" ContentType="image/gif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981-FBD2-41C4-8DD4-9E66BD30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1EE-0C71-4661-9A47-56295F09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DB6-AD17-41CD-BBC9-9CEDB5A6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1D0-4E8E-4684-8EBE-F4D24CF9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16E-3F05-4BA6-9E2E-0D335CE4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DCB-C074-4D2D-A6ED-84028892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68F-4E8A-45DF-B219-309401D6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027-3EC0-4F14-9B31-82E03FE9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5FC-213F-4B65-B890-5F1DC0B7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5E9-86A5-4D9C-9415-47A1CCEB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81E-1FD1-4155-A084-C15AEF77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0DB-CC3F-4A4F-BB76-C22EBBCE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1C1D-FD97-4345-A778-E39E260FC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1.xm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320508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153280" y="5888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815328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153280" y="12193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153280" y="33526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8153280" y="4724280"/>
            <a:ext cx="990720" cy="970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students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38280"/>
            <a:ext cx="426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amer fanon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jehad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omar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Malk nasar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970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Environmental tr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flipH="1">
            <a:off x="7009920" y="228600"/>
            <a:ext cx="213372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91320" y="0"/>
            <a:ext cx="3352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First</a:t>
            </a: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Salem af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82640"/>
            <a:ext cx="46483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: Salem afan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4024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Manara square – beside abdelnasir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8160" y="1981080"/>
            <a:ext cx="44258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924680" y="5029200"/>
            <a:ext cx="12193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8380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7621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Albeirah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ira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956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alsa’a square – beside Alhajal hot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76920" y="2133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mais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57440" y="6095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867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tel al-ha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324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flipH="1">
            <a:off x="5257440" y="0"/>
            <a:ext cx="213372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6212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37339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municipality al-be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ouaral al-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21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4572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’ad Al-tofo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l:240231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ddress 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beirah – beside Alhilal hospi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mportanc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81680" y="2209680"/>
            <a:ext cx="416232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864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School al-bera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spital al-hela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24680" y="365760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5880" y="5257800"/>
            <a:ext cx="8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asaad al-tofole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886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5764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5530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15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65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15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15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90720"/>
            <a:ext cx="4114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fa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:Ramallah – Amari camp Import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43560" cy="51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SCOOL 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828800"/>
            <a:ext cx="99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Park al-wfaa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4876920"/>
            <a:ext cx="53352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Club a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911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867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9528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657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45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45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45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45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4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95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45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95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45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95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5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380880"/>
            <a:ext cx="6934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cript MT Bold"/>
              </a:rPr>
              <a:t>Than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7238880" y="380880"/>
            <a:ext cx="152424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8800" cy="1951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419720"/>
            <a:ext cx="182880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6278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es</a:t>
            </a:r>
            <a:r>
              <a:rPr b="0" lang="ar-SA" sz="32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cript MT Bold"/>
                <a:hlinkClick r:id="rId6" action="ppaction://hlinksldjump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19720" y="31240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06:14Z</dcterms:created>
  <dc:creator>ali assaf</dc:creator>
  <dc:description/>
  <dc:language>en-US</dc:language>
  <cp:lastModifiedBy>Bader</cp:lastModifiedBy>
  <dcterms:modified xsi:type="dcterms:W3CDTF">2007-05-29T10:45:08Z</dcterms:modified>
  <cp:revision>11</cp:revision>
  <dc:subject/>
  <dc:title>الشريحة 1</dc:title>
</cp:coreProperties>
</file>