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2C13-191D-450C-A1D7-20AD0A4B7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A042-E27E-4AFB-A72B-51BE8A25D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8D2B-9894-4D50-B32D-8399D9DFB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73E8-EA29-4A3B-B52B-35F65148A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C9527-4E04-4EB4-9F5F-C85290D9A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A48F7-2B0D-49B3-ACB7-17A8C8932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5FE2E-E501-4008-9FB6-FBA0B6FEF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41A3C-A906-4570-A036-0600CEA5E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AF14A-856A-4336-83EC-AFCFE51D0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C31DE-EB61-46C8-BA94-BB08058A6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6EEFD-B18C-458C-B45B-FD1A42182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69E2-A9C6-4BA8-82C3-8105411E1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4703E-E0B2-4E0F-95AA-082C1FB61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97AFE-D211-4AA1-ABED-0D319033F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4D2B1-FD5B-4C4F-8063-F751D780C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251BC-CB6C-4D5E-B576-0DA9D6042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42443-29AE-44ED-A1EF-3145EE0FD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50C0-DB53-4045-BC66-984AA9EA2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E1CC-3C8F-484A-85AF-9972A9F1A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91A9-9157-4401-8EAA-1FC263D9D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7DA0-7ADE-4E59-9831-A929FE007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8B9E-7445-4C4B-AB69-B37DD544F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6390-A90F-433B-A201-4D76204FC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5F62-5B52-4F6F-94C0-5338991A3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7ACC8-E3C1-426D-A19E-D629102726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1DF9A-AE5F-452D-BC6B-E3FAE438EE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5.xml"/><Relationship Id="rId8" Type="http://schemas.openxmlformats.org/officeDocument/2006/relationships/slide" Target="slide5.xml"/><Relationship Id="rId9" Type="http://schemas.openxmlformats.org/officeDocument/2006/relationships/slide" Target="slide5.xml"/><Relationship Id="rId10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ultural treasures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94920" y="838080"/>
            <a:ext cx="632484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s program contains some cultural venu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: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cc00"/>
                </a:solidFill>
                <a:uFillTx/>
                <a:latin typeface="Arial"/>
              </a:rPr>
              <a:t>Cultural Pala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clubhouse </a:t>
            </a:r>
            <a:r>
              <a:rPr b="0" lang="ar-SA" sz="3200" spc="-1" strike="noStrike" u="sng">
                <a:solidFill>
                  <a:srgbClr val="ffcc00"/>
                </a:solidFill>
                <a:uFillTx/>
                <a:latin typeface="Arial"/>
                <a:hlinkClick r:id="rId3" action="ppaction://hlinksldjump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4" action="ppaction://hlinksldjump"/>
              </a:rPr>
              <a:t>Library Ramallah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5" action="ppaction://hlinksldjump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6" action="ppaction://hlinksldjump"/>
              </a:rPr>
              <a:t>Our Center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7" action="ppaction://hlinksldjump"/>
              </a:rPr>
              <a:t>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8" action="ppaction://hlinksldjump"/>
              </a:rPr>
              <a:t>Center</a:t>
            </a:r>
            <a:r>
              <a:rPr b="0" lang="ar-SA" sz="3200" spc="-1" strike="noStrike" u="sng">
                <a:solidFill>
                  <a:srgbClr val="ffcc00"/>
                </a:solidFill>
                <a:uFillTx/>
                <a:latin typeface="Arial"/>
                <a:hlinkClick r:id="rId9" action="ppaction://hlinksldjump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ave participated in this work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:-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ashem ja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rah qas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ihad om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amer ja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33920" y="63500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0520" y="457200"/>
            <a:ext cx="4094280" cy="57913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6200" y="762120"/>
            <a:ext cx="179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ultural Palace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93520" y="3430440"/>
            <a:ext cx="12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du Rayy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352680" y="56386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rawa scho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14600" y="838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91120" y="665280"/>
            <a:ext cx="4680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dress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amallah -  near Abu Rayya hospit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l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98475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wner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gover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ortance: cultural and civilization cente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80880" y="533520"/>
            <a:ext cx="4496040" cy="59436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029200" y="615960"/>
            <a:ext cx="4114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dress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amallah -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mari cam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l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98927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wner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l compa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ortance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ducation and culture initiative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5400000">
            <a:off x="3822840" y="2272680"/>
            <a:ext cx="918360" cy="642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l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o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95280" y="838080"/>
            <a:ext cx="914400" cy="916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mari cam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752480"/>
            <a:ext cx="762120" cy="11430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250600">
            <a:off x="448920" y="2142720"/>
            <a:ext cx="114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malla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3048120"/>
            <a:ext cx="1676520" cy="1447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68480" y="3048120"/>
            <a:ext cx="136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Om sharay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6720" y="3809880"/>
            <a:ext cx="144756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419720" y="1295280"/>
            <a:ext cx="4343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dress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amallah -near Clock squar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wner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gover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ortance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Center for Information initiative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>
            <a:lum bright="48000"/>
          </a:blip>
          <a:stretch/>
        </p:blipFill>
        <p:spPr>
          <a:xfrm>
            <a:off x="0" y="990720"/>
            <a:ext cx="4267080" cy="51051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600200" y="1066680"/>
            <a:ext cx="1162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Build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Clock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Tower</a:t>
            </a:r>
            <a:r>
              <a:rPr b="1" lang="ar-SA" sz="1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297080" y="2514600"/>
            <a:ext cx="186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Dizziness clo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67652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Ramallah libra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2590920"/>
            <a:ext cx="762120" cy="8380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4876920"/>
            <a:ext cx="109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Build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242640" y="3717720"/>
            <a:ext cx="109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uild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5400000">
            <a:off x="2604960" y="1407960"/>
            <a:ext cx="109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Build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72000" y="1066680"/>
            <a:ext cx="4572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dress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amallah - care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spit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wner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government projec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ortace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Center for Education and heritage express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304920"/>
            <a:ext cx="4343400" cy="59436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106800" y="4114800"/>
            <a:ext cx="10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ur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oun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enter</a:t>
            </a:r>
            <a:r>
              <a:rPr b="1" lang="ar-SA" sz="18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25160" y="2362320"/>
            <a:ext cx="114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ospit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a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529560" y="2742840"/>
            <a:ext cx="12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enter o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amalla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16200000">
            <a:off x="1212840" y="30700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an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8320" y="53352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tey cente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3271200">
            <a:off x="155880" y="192132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ak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19635600">
            <a:off x="1526040" y="243792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l saer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5232600">
            <a:off x="3000960" y="1301040"/>
            <a:ext cx="109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uild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09680" y="1980720"/>
            <a:ext cx="59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Building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905840" y="3047040"/>
            <a:ext cx="639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ff"/>
                </a:solidFill>
                <a:latin typeface="Arial"/>
              </a:rPr>
              <a:t>Building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347200" y="24336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ff"/>
                </a:solidFill>
                <a:latin typeface="Arial"/>
              </a:rPr>
              <a:t>Building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7:50:45Z</dcterms:created>
  <dc:creator>shadi</dc:creator>
  <dc:description/>
  <dc:language>en-US</dc:language>
  <cp:lastModifiedBy>Bader</cp:lastModifiedBy>
  <dcterms:modified xsi:type="dcterms:W3CDTF">2007-05-29T10:08:27Z</dcterms:modified>
  <cp:revision>17</cp:revision>
  <dc:subject/>
  <dc:title>الكنوز  الثقافي</dc:title>
</cp:coreProperties>
</file>