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644-AFE4-40AC-8694-DFEAC690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2C2-1703-4513-A5EC-5EE98A7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4F7-7971-45D1-98F1-CB148398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326-418A-4BC2-880E-9308B23F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3763-C279-49FC-B19E-3AA11334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0BD4-C673-4CB1-AC2C-CC53556A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280-854C-42FE-83DA-D7A0C46E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8E70-2693-489A-9320-695AF649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8B58-314E-4758-B573-479859D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E48A-F8ED-4C12-8FD1-5C7A8E8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9174-2BE7-4B4E-BE5C-1B01553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9AE-1C58-4815-B272-C4D4C108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613D-2CED-4261-9CC7-FC106A6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6A9-CE54-463A-94B1-022FA10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F19-2095-4312-ADA4-91013F32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3B74-DE4B-4710-A02E-A2FABFC1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2DC6-4145-4877-9354-326E06C9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BAF-4FC6-47B7-84CA-7814D185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D78-0120-4E96-B95B-C4C40251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B70-6EEE-4A8B-B789-D3DDDAF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DD0-B6BE-4DB4-89D5-6C3B7A62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7C6-865C-4DEB-BB98-C93ABED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470-9D48-4EF1-8A47-BAB0F93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9A9-EFEF-4D35-B45E-8448C0D5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B64-C19C-46D1-84B1-69C0E1107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9F5B-805A-4E8A-80F0-CD215D993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ltural treasur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6324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gram contains some cultural ve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ultural Pa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clubhouse 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Library Ramalla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Our Cente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Center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participated in this work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hem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rah qa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had o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mer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6350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20" y="457200"/>
            <a:ext cx="409428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00" y="76212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tural Palac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3520" y="34304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u Ray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aw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652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 near Abu Rayya 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475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: cultural and civilization ce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61596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ri 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927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tion and culture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22840" y="2272680"/>
            <a:ext cx="9183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838080"/>
            <a:ext cx="9144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mari c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6212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250600">
            <a:off x="448920" y="21427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8120"/>
            <a:ext cx="1676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3048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m shara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19720" y="1295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near Clock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Information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9907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066680"/>
            <a:ext cx="11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o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wer</a:t>
            </a:r>
            <a:r>
              <a:rPr b="1" lang="ar-SA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5146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zziness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amallah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90920"/>
            <a:ext cx="762120" cy="838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876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42640" y="3717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04960" y="14079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066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ca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 proj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Education and heritage expres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06800" y="4114800"/>
            <a:ext cx="10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160" y="23623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29560" y="274284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12840" y="3070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320" y="533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tey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3271200">
            <a:off x="155880" y="192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635600">
            <a:off x="1526040" y="24379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 sa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232600">
            <a:off x="3000960" y="13010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07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840" y="304704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200" y="2433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50:45Z</dcterms:created>
  <dc:creator>shadi</dc:creator>
  <dc:description/>
  <dc:language>en-US</dc:language>
  <cp:lastModifiedBy>Bader</cp:lastModifiedBy>
  <dcterms:modified xsi:type="dcterms:W3CDTF">2007-05-29T10:08:27Z</dcterms:modified>
  <cp:revision>17</cp:revision>
  <dc:subject/>
  <dc:title>الكنوز  الثقافي</dc:title>
</cp:coreProperties>
</file>