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1B3-B69C-4CBB-AF86-048D983B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268-B6F4-4331-AB60-B119154C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9B1-0E6C-4112-9816-DCC12708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E86-62A0-46DB-9705-C238247C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80B6-26B3-43C2-BF23-CD19939C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6657-6619-47AF-B524-74AE1D26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0316-8A23-490E-B4BC-CECB6B45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9761-955F-468B-BF60-9B37C8D3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9103-6868-49B1-B7C0-36953F8C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B6D9-417D-45C1-BF55-40D9DFB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399A-8F1A-4997-BAFD-B5590CD4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F31-3780-4535-9A6B-8932FE1E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A248-3665-422C-A817-79ED38E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406B-6720-487D-AE55-52754DAE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1484-4AD1-4D0A-96B2-16FCDEA5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34B6-880F-48BF-83D3-AF79C06C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210B-FC30-4384-BE8A-637A5748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681-A126-4BBA-B74E-8BAFBFDF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EA8-2D7E-496C-BC2C-11430408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547-CC20-4E2E-91C8-D3BD0A5E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12C-A8F4-464A-BEA9-0E28B4F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618-3E27-4D0A-9254-E4BD8F3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92D-1E9B-4325-9C9C-1F8669F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29F-DDF8-4B86-98C0-01902D49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5FCC-14E7-4009-BF74-A74C1FDF0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1380-413D-4A58-B798-453628DF5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ltural treasur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6324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rogram contains some cultural ven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ultural Pa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clubhouse 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Library Ramallah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Our Center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Center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participated in this work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hem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rah qas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had o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mer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6350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20" y="457200"/>
            <a:ext cx="409428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200" y="76212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ltural Palac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93520" y="34304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u Ray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5638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awa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66528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 near Abu Rayya 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475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: cultural and civilization cen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49604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61596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ri c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927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ucation and culture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22840" y="2272680"/>
            <a:ext cx="9183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838080"/>
            <a:ext cx="9144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mari c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752480"/>
            <a:ext cx="76212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250600">
            <a:off x="448920" y="21427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8120"/>
            <a:ext cx="167652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8480" y="30481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m sharay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0988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19720" y="12952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near Clock squa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Information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990720"/>
            <a:ext cx="4267080" cy="5105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066680"/>
            <a:ext cx="11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lo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ower</a:t>
            </a:r>
            <a:r>
              <a:rPr b="1" lang="ar-SA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25146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zziness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amallah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590920"/>
            <a:ext cx="762120" cy="838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8769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42640" y="37177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604960" y="14079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1066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car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 proje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Education and heritage expres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06800" y="4114800"/>
            <a:ext cx="10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u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5160" y="2362320"/>
            <a:ext cx="11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spi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529560" y="274284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12840" y="3070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320" y="5335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tey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3271200">
            <a:off x="155880" y="1921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635600">
            <a:off x="1526040" y="24379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 sa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232600">
            <a:off x="3000960" y="130104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98072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840" y="304704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7200" y="2433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50:45Z</dcterms:created>
  <dc:creator>shadi</dc:creator>
  <dc:description/>
  <dc:language>en-US</dc:language>
  <cp:lastModifiedBy>Bader</cp:lastModifiedBy>
  <dcterms:modified xsi:type="dcterms:W3CDTF">2007-05-29T10:08:27Z</dcterms:modified>
  <cp:revision>17</cp:revision>
  <dc:subject/>
  <dc:title>الكنوز  الثقافي</dc:title>
</cp:coreProperties>
</file>