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3C2E-2A8C-4984-A223-3AF3CCC8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F13D-A52C-457E-B2D1-A4F6F8D1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A6AB-793A-497B-9DCF-F871ACA7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71D2-F2D4-4BB9-8317-B0573C8C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6836-4F4A-44A1-847D-EAF0911D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F611-A25A-4273-81FF-45760D9B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E768-196E-41B5-B791-26832D8D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48F0-A72C-4A17-8495-16CA3641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5603-DB82-4C2D-937D-2E659DD2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4C7D-38F3-47C4-B3DF-20F329EA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7CC8-5928-4A61-82E5-5A023CB1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6C77-B295-47AE-98C2-5A41200B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9649-0478-4D35-8154-5BD28740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C75A-0FBF-46B6-91F1-ACDE9321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1196-D2FC-47EB-B48B-F7D2848D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58EF-38B3-4C8E-A3FF-DDA4A154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DE9E-5BD2-4798-8764-6AAB99C7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D676-5E29-4DE9-8262-000015F5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A655-51C1-41B0-A969-A4286AF7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3E7C-A7DD-493B-809F-E6A1F1EC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8CEA-FA5F-4929-A45C-5FC4AA25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6D34-C2B8-4C36-89FC-815614C1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C38F-465A-4E0F-AB55-890E6499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91DD-E1DF-4CAF-A2A8-FCEA0F9B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D462-E732-4F9F-9139-DCA33E48C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C3C8-4C0E-4696-A6A3-5EDA5BE367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ultural treasure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4920" y="838080"/>
            <a:ext cx="63248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program contains some cultural venu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Cultural Pala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clubhouse 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Library Ramallah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Our Center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Center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ve participated in this work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: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shem ja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rah qas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ihad om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mer ja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63500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0520" y="457200"/>
            <a:ext cx="4094280" cy="5791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200" y="762120"/>
            <a:ext cx="17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ltural Palace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93520" y="343044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u Rayy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5638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rawa 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83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665280"/>
            <a:ext cx="468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ress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mallah -  near Abu Rayya hospit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98475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wner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: cultural and civilization cen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449604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29200" y="615960"/>
            <a:ext cx="4114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ress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mallah -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ari ca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98927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wner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l comp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ucation and culture initiative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3822840" y="2272680"/>
            <a:ext cx="91836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l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838080"/>
            <a:ext cx="91440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mari c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752480"/>
            <a:ext cx="762120" cy="1143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250600">
            <a:off x="448920" y="21427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mall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048120"/>
            <a:ext cx="1676520" cy="14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8480" y="304812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m sharay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80988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419720" y="1295280"/>
            <a:ext cx="4343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ress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mallah -near Clock squar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wner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enter for Information initiative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>
            <a:lum bright="48000"/>
          </a:blip>
          <a:stretch/>
        </p:blipFill>
        <p:spPr>
          <a:xfrm>
            <a:off x="0" y="990720"/>
            <a:ext cx="4267080" cy="5105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00200" y="1066680"/>
            <a:ext cx="116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uild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loc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ower</a:t>
            </a:r>
            <a:r>
              <a:rPr b="1" lang="ar-SA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7080" y="251460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izziness c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6765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amallah libr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2590920"/>
            <a:ext cx="762120" cy="838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87692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242640" y="371772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2604960" y="140796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0" y="106668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ress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mallah - care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spit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wner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overnment proje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ce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enter for Education and heritage express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4343400" cy="5943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106800" y="4114800"/>
            <a:ext cx="10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u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un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nter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5160" y="2362320"/>
            <a:ext cx="114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ospit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529560" y="274284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nter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amall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212840" y="30700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8320" y="5335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tey cent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3271200">
            <a:off x="155880" y="1921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ak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9635600">
            <a:off x="1526040" y="24379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l saer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5232600">
            <a:off x="3000960" y="1301040"/>
            <a:ext cx="10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198072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Buildin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5840" y="3047040"/>
            <a:ext cx="63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Buildi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7200" y="2433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Buildi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7:50:45Z</dcterms:created>
  <dc:creator>shadi</dc:creator>
  <dc:description/>
  <dc:language>en-US</dc:language>
  <cp:lastModifiedBy>Bader</cp:lastModifiedBy>
  <dcterms:modified xsi:type="dcterms:W3CDTF">2007-05-29T10:08:27Z</dcterms:modified>
  <cp:revision>17</cp:revision>
  <dc:subject/>
  <dc:title>الكنوز  الثقافي</dc:title>
</cp:coreProperties>
</file>