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FC3-C963-48C8-AEBD-817C4446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844-653A-4B34-ADBB-40C63C4C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153-9F85-468D-8AA6-C7EF6C3C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6C5-084D-4D4C-AB38-3B94B201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B1B-121B-42EC-9C51-881AE650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A26-E6FF-4E77-B4E7-1FB8BD57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ABF-C3B6-400F-BCD8-22248D3B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6817-AA17-4B77-A0EB-0DCBDE3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EECC-8F29-4E29-9276-6D5EF4D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126-C653-4F87-B5FB-08BFE00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B85-1DBF-4A39-B5F4-5117EC9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E58-3931-4AF7-9005-F9A2646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0B3D-C775-45EC-AC7C-13EBD8CF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644C-DA6A-4E05-997E-96E9EFE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22D8-FACF-4E4B-89E8-6D95868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F92C-8FDF-495D-BB89-F6E3734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69E-CA15-4D90-AFCE-8D68ED23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202-109A-41F0-A0D3-CB4E7BFF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49D-4BE6-4F4E-8683-351D479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166-DD70-4300-9A28-3EE9851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8F1-B497-4820-B76C-A9758D04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77D-B395-4216-85FD-E123214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570-3A6D-4DA8-8129-BE6D042A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9FB-BC95-425F-8116-B4AD23D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93B6-934A-4629-987C-BE1235C8F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CF3-2F1C-4F10-978F-AD8FE56F8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ltural treasur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6324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gram contains some cultural ve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ultural Pa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clubhouse 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Library Ramalla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Our Cente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Center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participated in this work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hem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rah qa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had o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mer j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6350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20" y="457200"/>
            <a:ext cx="409428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200" y="76212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ltural Palac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3520" y="34304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u Ray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aw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652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 near Abu Rayya 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475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: cultural and civilization ce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49604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61596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ri 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8927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tion and culture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822840" y="2272680"/>
            <a:ext cx="9183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838080"/>
            <a:ext cx="9144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mari c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6212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250600">
            <a:off x="448920" y="21427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8120"/>
            <a:ext cx="167652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30481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m shara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19720" y="1295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near Clock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Information initiati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9907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066680"/>
            <a:ext cx="11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o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wer</a:t>
            </a:r>
            <a:r>
              <a:rPr b="1" lang="ar-SA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5146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zziness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amallah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590920"/>
            <a:ext cx="762120" cy="838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8769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42640" y="3717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04960" y="14079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066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allah - ca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wne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vernment proj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ce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enter for Education and heritage expres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06800" y="4114800"/>
            <a:ext cx="10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160" y="23623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29560" y="274284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ma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12840" y="3070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320" y="533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tey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3271200">
            <a:off x="155880" y="1921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635600">
            <a:off x="1526040" y="24379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 sa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232600">
            <a:off x="3000960" y="130104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07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840" y="304704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200" y="2433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uild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50:45Z</dcterms:created>
  <dc:creator>shadi</dc:creator>
  <dc:description/>
  <dc:language>en-US</dc:language>
  <cp:lastModifiedBy>Bader</cp:lastModifiedBy>
  <dcterms:modified xsi:type="dcterms:W3CDTF">2007-05-29T10:08:27Z</dcterms:modified>
  <cp:revision>17</cp:revision>
  <dc:subject/>
  <dc:title>الكنوز  الثقافي</dc:title>
</cp:coreProperties>
</file>