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DE5-EB56-46A4-9756-0556D8F3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516-2E7D-4E0D-81F8-C96FC9C7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A3D-5A73-42CE-AD30-C43252FE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36F-7814-4712-9FE8-0957E1DD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61F-8A3B-42AE-9A1B-64E1F5D2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6A2-7D0D-4D90-AB98-10E2F919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CE2-6175-429D-8560-4E1EA8D0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AD3-2AB5-420E-ADE7-77BA3805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45D-571A-4763-890A-ED23995B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735-561F-49D8-9F6F-11C15E13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4CA-FE93-407F-888E-D233A4F9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3FF-F46D-4982-A154-5C8C46EC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0313-B56A-4526-A484-17EB38A55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657240"/>
            <a:ext cx="6400800" cy="289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horku is one of the ancient villages of Isfara town. I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n the eastern part of the village Chorku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ere is a pool where live many fishes. This pool’s name is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Langari Mohien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at means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hom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o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fish. The fish inedible. The people with the diseas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jaundice always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come to look at fish, and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an really recover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from ill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3828960" cy="274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104760"/>
            <a:ext cx="685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gari Mohi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19721400">
            <a:off x="0" y="1904760"/>
            <a:ext cx="4238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sit to our town-Isfa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040" y="3428640"/>
            <a:ext cx="7467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you will threw the sunflow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seeds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ft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a few minutes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you can see peel of it on the surface of water. It is very amazingly beautiful.You can touch fish and it doesn't afrai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86 under head of Numon Nematovich Nematov was conducte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archaeological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vestigations.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276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s a result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were found fragments of pottery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First century AD and most of all remnants of ancient stone foundations-running constr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n 50</a:t>
            </a:r>
            <a:r>
              <a:rPr b="0" lang="en-US" sz="3200" spc="-1" strike="noStrike" baseline="30000">
                <a:solidFill>
                  <a:srgbClr val="6600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of last Century in the place of  “Hoiti Mulloatokhon” were found historical stuff which is from 1-2 AD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4920" y="228600"/>
            <a:ext cx="39718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3551040"/>
            <a:ext cx="6782040" cy="33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One of the story – teller says that here dead one of the Bukhara Kings-Hisomuddin Umar Ibn Abdulaziz Moza and was buried here.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Based on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this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fact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, w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e can say that the historical monuments which exist in Isfara, are of great international impor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33840" y="304920"/>
            <a:ext cx="4047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50532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97 the representatives of 20 countries visited to this place. In general, the  representatives about 60-65 countries came to visit here. There were fishes even when Alexander the Great was 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ut this place need to be restore,and we hope in future people can visit here and enjoy of looking the f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434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86800" y="-4023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292428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Suhrob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981080"/>
            <a:ext cx="3657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Irshod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91120" y="388620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homadov Izzat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5181480"/>
            <a:ext cx="3504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sfara town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34320" y="5562720"/>
            <a:ext cx="1962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LC    Isfa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SA</cp:lastModifiedBy>
  <dcterms:modified xsi:type="dcterms:W3CDTF">2007-05-18T08:29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