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DC7-11B5-402F-835D-22197510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988-1F70-46B1-887A-78BCB6E8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B2C-88F1-4155-AA15-F7D96908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EE4-3B15-4D46-920F-598801B3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58F5-7A9B-4EC0-A10D-82A8CADB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68F-041A-44BE-9A9E-A6EA0F74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EA3C-3F4B-4D9D-AB86-9FB4CF90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1C8-2B10-4AB0-B90A-09EDFA1F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E2A-EFCF-4FF8-BD0C-0D071668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699-4D3B-4C8A-9FD7-7F7A2702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9E9-1F97-4484-9F6E-9C4A15BA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AB7-D407-4790-BEC9-3B3EDBC0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8110-21C9-481D-B1BA-5EEFDFF11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3000" y="3657240"/>
            <a:ext cx="6400800" cy="289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Chorku is one of the ancient villages of Isfara town. I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n the eastern part of the village Chorku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here is a pool where live many fishes. This pool’s name is 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Langari Mohien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hat means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home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o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fish. The fish inedible. The people with the disease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jaundice always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come to look at fish, and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can really recover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from illn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3828960" cy="2748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066680" y="104760"/>
            <a:ext cx="6858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gari Mohie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 rot="19721400">
            <a:off x="0" y="1904760"/>
            <a:ext cx="42386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sit to our town-Isfar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14040" y="3428640"/>
            <a:ext cx="7467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When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you will threw the sunflower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seeds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fter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a few minutes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you can see peel of it on the surface of water. It is very amazingly beautiful.You can touch fish and it doesn't afrai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 1986 under head of Numon Nematovich Nematov was conducted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archaeological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vestigations.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38098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276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s a result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were found fragments of pottery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D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First century AD and most of all remnants of ancient stone foundations-running constru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In 50</a:t>
            </a:r>
            <a:r>
              <a:rPr b="0" lang="en-US" sz="3200" spc="-1" strike="noStrike" baseline="30000">
                <a:solidFill>
                  <a:srgbClr val="6600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 of last Century in the place of  “Hoiti Mulloatokhon” were found historical stuff which is from 1-2 AD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14920" y="228600"/>
            <a:ext cx="39718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94920" y="3551040"/>
            <a:ext cx="6782040" cy="330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One of the story – teller says that here dead one of the Bukhara Kings-Hisomuddin Umar Ibn Abdulaziz Moza and was buried here.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Based on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this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fact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, w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e can say that the historical monuments which exist in Isfara, are of great international impor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33840" y="304920"/>
            <a:ext cx="4047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3505320"/>
            <a:ext cx="7848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 1997 the representatives of 20 countries visited to this place. In general, the  representatives about 60-65 countries came to visit here. There were fishes even when Alexander the Great was in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But this place need to be restore,and we hope in future people can visit here and enjoy of looking the f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38280" y="304920"/>
            <a:ext cx="43434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86800" y="-40237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971800" y="2924280"/>
            <a:ext cx="376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Qodirov Suhrob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981080"/>
            <a:ext cx="36576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Qodirov Irshod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191120" y="3886200"/>
            <a:ext cx="376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homadov Izzat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5181480"/>
            <a:ext cx="35049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sfara town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934320" y="5562720"/>
            <a:ext cx="19620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LC    Isfa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SA</cp:lastModifiedBy>
  <dcterms:modified xsi:type="dcterms:W3CDTF">2007-05-18T08:29:4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