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CE8C-A320-4321-BE07-BC6FA1328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33BE-7E32-4210-BC1B-1FE13AF7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F5C0-3136-4C7A-BA4E-56DE6EAF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9DF5-74C9-4F7D-8596-2F33CB5EF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E8F0-9257-496A-9925-CE9F7FB6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782B-AB4A-4535-8BF4-1A8703BF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9EDF-F6F0-410E-BBCE-877F0C0A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4CCA-F8AE-411A-B3EA-F7BB925E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35DD-659B-4B39-8EC5-605069EF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A02F-F074-411A-8877-79385477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26D1-4A55-4C2F-9458-4B690BF4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9F21-7A68-4A33-BFF1-13DF574D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1521-BE27-4AC7-AEC1-52082FE79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43000" y="3657240"/>
            <a:ext cx="6400800" cy="2895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Chorku is one of the ancient villages of Isfara town. I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n the eastern part of the village Chorku 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there is a pool where live many fishes. This pool’s name is  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Langari Mohien 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that means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 home 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to 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fish. The fish inedible. The people with the disease 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jaundice always 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come to look at fish, and 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can really recover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 from illn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962520" y="838080"/>
            <a:ext cx="3828960" cy="2748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066680" y="104760"/>
            <a:ext cx="68580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angari Mohie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 rot="19721400">
            <a:off x="0" y="1904760"/>
            <a:ext cx="423864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Visit to our town-Isfar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914040" y="3428640"/>
            <a:ext cx="74674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When 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you will threw the sunflower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 seeds 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after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 a few minutes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 you can see peel of it on the surface of water. It is very amazingly beautiful.You can touch fish and it doesn't afrai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In 1986 under head of Numon Nematovich Nematov was conducted 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archaeological 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investigations.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800600" y="228600"/>
            <a:ext cx="3809880" cy="3029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33520" y="22860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3276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s a result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 were found fragments of pottery 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AD 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First century AD and most of all remnants of ancient stone foundations-running constru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In 50</a:t>
            </a:r>
            <a:r>
              <a:rPr b="0" lang="en-US" sz="3200" spc="-1" strike="noStrike" baseline="30000">
                <a:solidFill>
                  <a:srgbClr val="6600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 of last Century in the place of  “Hoiti Mulloatokhon” were found historical stuff which is from 1-2 AD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14920" y="228600"/>
            <a:ext cx="397188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94920" y="3551040"/>
            <a:ext cx="6782040" cy="3306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One of the story – teller says that here dead one of the Bukhara Kings-Hisomuddin Umar Ibn Abdulaziz Moza and was buried here. </a:t>
            </a: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Based on 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this</a:t>
            </a: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 fact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, w</a:t>
            </a: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e can say that the historical monuments which exist in Isfara, are of great international import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733840" y="304920"/>
            <a:ext cx="404784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3505320"/>
            <a:ext cx="78487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In 1997 the representatives of 20 countries visited to this place. In general, the  representatives about 60-65 countries came to visit here. There were fishes even when Alexander the Great was in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But this place need to be restore,and we hope in future people can visit here and enjoy of looking the fis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438280" y="304920"/>
            <a:ext cx="434340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686800" y="-402372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971800" y="2924280"/>
            <a:ext cx="3762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Qodirov Suhrob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480" y="1981080"/>
            <a:ext cx="36576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Qodirov Irshod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191120" y="3886200"/>
            <a:ext cx="3762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Shomadov Izzat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5181480"/>
            <a:ext cx="35049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Isfara town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934320" y="5562720"/>
            <a:ext cx="196200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ILC    Isfar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SA</cp:lastModifiedBy>
  <dcterms:modified xsi:type="dcterms:W3CDTF">2007-05-18T08:29:47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