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854-E0BE-4B7F-B84E-8B723A73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634-CE6A-4A31-B346-89705B8A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A97-9316-438B-A474-35FCE61C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B41-5504-4106-97C9-84C3693C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AFA-80F3-4E44-B945-966F4EA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E7E-B312-452C-A6A2-FC8F8B0B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49A-B470-4A34-AC16-833D609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596-C80D-4956-95B6-F43F65E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E5D-FBC4-40BF-84DA-D102D0A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A6F-3D21-4F67-95BD-2955401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0EC-A2D8-4DA4-9B14-F043750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BC1-4AD4-48F5-B941-1D1C430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8EBB-5D7F-4541-9A13-D7B4F647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89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horku is one of the ancient villages of Isfara town. I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n the eastern part of the village Chorku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ere is a pool where live many fishes. This pool’s name is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Langari Mohien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at means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hom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fish. The fish inedible. The people with the diseas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undice always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come to look at fish, and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an really recover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from ill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3828960" cy="274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104760"/>
            <a:ext cx="685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gari Mohi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19721400">
            <a:off x="0" y="1904760"/>
            <a:ext cx="423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t to our town-Isf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3428640"/>
            <a:ext cx="7467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you will threw the sunflow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seeds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ft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a few minutes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you can see peel of it on the surface of water. It is very amazingly beautiful.You can touch fish and it doesn't afra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86 under head of Numon Nematovich Nematov was conducte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archaeological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vestigations.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s a resul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were found fragments of pottery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First century AD and most of all remnants of ancient stone foundations-running constr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n 50</a:t>
            </a:r>
            <a:r>
              <a:rPr b="0" lang="en-US" sz="3200" spc="-1" strike="noStrike" baseline="30000">
                <a:solidFill>
                  <a:srgbClr val="66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of last Century in the place of  “Hoiti Mulloatokhon” were found historical stuff which is from 1-2 A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4920" y="228600"/>
            <a:ext cx="3971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3551040"/>
            <a:ext cx="6782040" cy="33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One of the story – teller says that here dead one of the Bukhara Kings-Hisomuddin Umar Ibn Abdulaziz Moza and was buried here.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Based on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fact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, w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e can say that the historical monuments which exist in Isfara, are of great international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304920"/>
            <a:ext cx="4047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5053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97 the representatives of 20 countries visited to this place. In general, the  representatives about 60-65 countries came to visit here. There were fishes even when Alexander the Great was 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ut this place need to be restore,and we hope in future people can visit here and enjoy of looking the f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4023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292428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Suhrob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3657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Irsho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homadov Izzat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181480"/>
            <a:ext cx="3504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fara town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5562720"/>
            <a:ext cx="196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LC    Isf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A</cp:lastModifiedBy>
  <dcterms:modified xsi:type="dcterms:W3CDTF">2007-05-18T08:29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