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9EC8E-8C63-4053-ABBB-5AE8AACAF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D117A-937B-4F6F-8688-8C25AF076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C93CD-738C-4AA6-8D4B-0F8A68768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7C7AC-FB7D-40AC-9292-7FDCF7096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CBA0D-1197-452A-9543-F3D69447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5596F-604F-4E64-B9B4-119776C5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8873-F6AB-46F2-BA19-27599689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50DE9-204C-4243-97E2-4D835F6F6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996E2-48AC-4E05-AF36-C56348EC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D0FE8-B587-4AF1-B82C-80405FADB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E6790-07FF-448A-97DA-52B083BA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D8BA-5F72-47A1-9071-35DE98E8C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432A-B1DD-4F81-B5B4-6D396DBA7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2" name="PlaceHolder 2"/>
          <p:cNvSpPr>
            <a:spLocks noGrp="1"/>
          </p:cNvSpPr>
          <p:nvPr>
            <p:ph type="subTitle"/>
          </p:nvPr>
        </p:nvSpPr>
        <p:spPr>
          <a:xfrm>
            <a:off x="2492280" y="62388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C Isfara – English Cl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0 Soldiers and 40 Fairi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ey were swimming in the river. The girls were very beautiful they were like fairs. They cried when they saw soldiers. The son of khan commanded to his soldiers to leave that place. After that prince came to the palace and asked his father: </a:t>
            </a:r>
            <a:endParaRPr b="0" lang="en-US" sz="2800" spc="-1" strike="noStrike">
              <a:solidFill>
                <a:srgbClr val="000000"/>
              </a:solidFill>
              <a:latin typeface="Arial"/>
            </a:endParaRPr>
          </a:p>
        </p:txBody>
      </p:sp>
      <p:pic>
        <p:nvPicPr>
          <p:cNvPr id="59" name="" descr=""/>
          <p:cNvPicPr/>
          <p:nvPr/>
        </p:nvPicPr>
        <p:blipFill>
          <a:blip r:embed="rId2"/>
          <a:stretch/>
        </p:blipFill>
        <p:spPr>
          <a:xfrm>
            <a:off x="5219640" y="2421000"/>
            <a:ext cx="324324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Where did you send me there? That place was very beautiful place in our world. I saw there many very beautiful girls. I want to marry to one of the girls. It was the place where fairies rest. After that this place was named Istpari . Few year later many came to Isfara and renamed Istpari to Isfara.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is was our  legend about “How Isfara got its name”.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pari- is aTajik word which means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 - stopping station</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pari- fairy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d by ILC Isfa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First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Mehrullo Mahramov</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Amirkhon Bozorzo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econd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Gulafzo Shernazar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hahnoza Rahmon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ctures by Mahfuza Jalol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me images are from Wikimedia Com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They say that two angels who were in love in each other were flying on the sky. They were flying over the seas, rivers towns and villages. Suddenly they saw a beautiful nature of mountains. High mountains with green trees on the bank of a river.  The pure running water in a small river which was running from the heart of those mountains. On the banks of that river there were lots of green places and the green vall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t that time in the early morning was going down and the drown of the grass and leaves were reflected by the shines of the sun. It seemed  that the generous nature presented its richness. The young man looks meaningfully at his girl-friend and she became happy and he said “</a:t>
            </a:r>
            <a:r>
              <a:rPr b="1" lang="ru-RU" sz="2800" spc="-1" strike="noStrike">
                <a:solidFill>
                  <a:srgbClr val="008000"/>
                </a:solidFill>
                <a:latin typeface="Arial"/>
              </a:rPr>
              <a:t>Ист-фаро-</a:t>
            </a:r>
            <a:r>
              <a:rPr b="1" lang="en-US" sz="2800" spc="-1" strike="noStrike">
                <a:solidFill>
                  <a:srgbClr val="008000"/>
                </a:solidFill>
                <a:latin typeface="Arial"/>
              </a:rPr>
              <a:t>Ist-faro” which means Stop and get off” and from that day on this place got the name “Stop and get off”. Stop and rest </a:t>
            </a:r>
            <a:r>
              <a:rPr b="1" lang="en-US" sz="2800" spc="-1" strike="noStrike">
                <a:solidFill>
                  <a:srgbClr val="008000"/>
                </a:solidFill>
                <a:latin typeface="Wingdings"/>
                <a:ea typeface="Wingdings"/>
              </a:rPr>
              <a:t></a:t>
            </a:r>
            <a:r>
              <a:rPr b="1" lang="en-US" sz="2800" spc="-1" strike="noStrike">
                <a:solidFill>
                  <a:srgbClr val="008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egend</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you visit Isfara</a:t>
            </a:r>
            <a:r>
              <a:rPr b="0" lang="ru-RU" sz="2800" spc="-1" strike="noStrike">
                <a:solidFill>
                  <a:srgbClr val="009999"/>
                </a:solidFill>
                <a:latin typeface="Arial"/>
              </a:rPr>
              <a:t>,</a:t>
            </a:r>
            <a:r>
              <a:rPr b="0" lang="en-US" sz="2800" spc="-1" strike="noStrike">
                <a:solidFill>
                  <a:srgbClr val="009999"/>
                </a:solidFill>
                <a:latin typeface="Arial"/>
              </a:rPr>
              <a:t> you will be greeted by a fairy monument and  look for the castle. Can you see the place where 40-soldiers met 40-girls. This is a wonderful legend about how a beautiful town got its 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539640" y="1125360"/>
            <a:ext cx="3645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fara Got Its Nam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Isfara is an old town. It has more than 300- history about its name. Now I want to tell you one histories about its name. An past time there was no people in Isfara. Nobody know about Isfara. In Bukhara was one king. The people named this king khan Bukha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Khan had one son. His son was very bashful. He liked to go hunting. When he grew-up</a:t>
            </a:r>
            <a:r>
              <a:rPr b="0" i="1" lang="ru-RU" sz="2400" spc="-1" strike="noStrike">
                <a:solidFill>
                  <a:srgbClr val="009999"/>
                </a:solidFill>
                <a:latin typeface="Arial"/>
              </a:rPr>
              <a:t>,</a:t>
            </a:r>
            <a:r>
              <a:rPr b="0" i="1" lang="en-US" sz="2400" spc="-1" strike="noStrike">
                <a:solidFill>
                  <a:srgbClr val="009999"/>
                </a:solidFill>
                <a:latin typeface="Arial"/>
              </a:rPr>
              <a:t> one day his father asked him to go to hunt. And he went hunting with 40-soildiers to one place</a:t>
            </a:r>
            <a:r>
              <a:rPr b="0" i="1" lang="ru-RU" sz="2400" spc="-1" strike="noStrike">
                <a:solidFill>
                  <a:srgbClr val="009999"/>
                </a:solidFill>
                <a:latin typeface="Arial"/>
              </a:rPr>
              <a:t>,</a:t>
            </a:r>
            <a:r>
              <a:rPr b="0" i="1" lang="en-US" sz="2400" spc="-1" strike="noStrike">
                <a:solidFill>
                  <a:srgbClr val="009999"/>
                </a:solidFill>
                <a:latin typeface="Arial"/>
              </a:rPr>
              <a:t> there was one high mountain and one river. It was very beautiful there. In the river there were 40- girls.</a:t>
            </a:r>
            <a:endParaRPr b="0" lang="en-US" sz="2400" spc="-1" strike="noStrike">
              <a:solidFill>
                <a:srgbClr val="000000"/>
              </a:solidFill>
              <a:latin typeface="Arial"/>
            </a:endParaRPr>
          </a:p>
        </p:txBody>
      </p:sp>
      <p:pic>
        <p:nvPicPr>
          <p:cNvPr id="55" name="" descr=""/>
          <p:cNvPicPr/>
          <p:nvPr/>
        </p:nvPicPr>
        <p:blipFill>
          <a:blip r:embed="rId2"/>
          <a:stretch/>
        </p:blipFill>
        <p:spPr>
          <a:xfrm>
            <a:off x="870120" y="1600200"/>
            <a:ext cx="3213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8360" y="333360"/>
            <a:ext cx="8116920" cy="61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8:05:41Z</dcterms:created>
  <dc:creator>Гость</dc:creator>
  <dc:description/>
  <dc:language>en-US</dc:language>
  <cp:lastModifiedBy>Гость</cp:lastModifiedBy>
  <dcterms:modified xsi:type="dcterms:W3CDTF">2007-02-20T10:56:45Z</dcterms:modified>
  <cp:revision>12</cp:revision>
  <dc:subject/>
  <dc:title>How Isfara Got Its Name</dc:title>
</cp:coreProperties>
</file>