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CABB-CBF9-4658-84BE-6EC9420CE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AFB6-5C2D-451D-AD0F-FC8162EE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74987-DC15-48F5-9D7C-DC004B4CF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C69DF-ECE2-40D1-9AA7-840449C8F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CA619-9AA5-4058-AECF-4EF3F5480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75071-9024-41D5-9188-770C3E57E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81EF8-573D-4CC4-A900-670726BF5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30AF-B566-43BA-B260-42BE7A153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F6392-CBD8-4E3D-9760-7D27F8D2B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F8C2C-2EE5-4426-8489-99FEC2F4A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52C7-8F53-4FF8-9ABD-0A941F79B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D51A-107A-4BED-B781-77EC7690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78CB0-52D0-4C73-B889-9687F117B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44B1-49B8-434B-AFFE-967D6D3E6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AB631-1E81-49F2-9FB9-A88730D5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42C0A-9085-4797-9F83-10846A527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9A4BE-9D19-45DB-94AC-B464C9581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01E81-F0DF-435D-A5D8-68018CE2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8FAA-1FE1-49FA-9263-022FD6BD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93E1-BC07-4622-BD95-33F35DEB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A173A-649B-469C-96AC-35A6201DB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83FC-6CCF-40B2-8720-A4CBEA7A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4A8E-E303-44A8-B557-304FA9C8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70B4-B4E0-41A9-968C-10DCAE70B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046B-D32E-485A-ABC2-97CB3AD543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453-72A8-4B0E-8EBC-68AA2D35F4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images.google.com.bd/imgres?imgurl=http://www.bsmrau.org/image/map.jpg&amp;imgrefurl=http://www.bsmrau.org/contact.htm&amp;h=780&amp;w=540&amp;sz=53&amp;hl=bn&amp;start=1&amp;um=1&amp;tbnid=3wlcQS3phK4pDM:&amp;tbnh=142&amp;tbnw=98&amp;prev=/images%3Fq%3DMap%2Bof%2BGAzipur%2BBangladesh%26svnum%3D10%26um%3D1%26hl%3Db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bd/imgres?imgurl=http://www.anandaseattle.org/i/mandir-lower-plan.jpg&amp;imgrefurl=http://www.anandaseattle.org/mandir/home.php&amp;h=1275&amp;w=1650&amp;sz=188&amp;hl=bn&amp;start=17&amp;um=1&amp;tbnid=TErFDp2RRgJR1M:&amp;tbnh=116&amp;tbnw=150&amp;prev=/images%3Fq%3DMandir%26svnum%3D10%26um%3D1%26hl%3Db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munity Treasure Mapping (Gazipur)</a:t>
            </a:r>
            <a:endParaRPr b="1" lang="en-US" sz="3200" spc="-1" strike="noStrike">
              <a:solidFill>
                <a:srgbClr val="003366"/>
              </a:solidFill>
              <a:latin typeface="Arial"/>
            </a:endParaRPr>
          </a:p>
        </p:txBody>
      </p:sp>
      <p:pic>
        <p:nvPicPr>
          <p:cNvPr id="96" name="" descr=""/>
          <p:cNvPicPr/>
          <p:nvPr/>
        </p:nvPicPr>
        <p:blipFill>
          <a:blip r:embed="rId1"/>
          <a:stretch/>
        </p:blipFill>
        <p:spPr>
          <a:xfrm>
            <a:off x="228600" y="1676520"/>
            <a:ext cx="8534520" cy="4343400"/>
          </a:xfrm>
          <a:prstGeom prst="rect">
            <a:avLst/>
          </a:prstGeom>
          <a:ln w="0">
            <a:noFill/>
          </a:ln>
        </p:spPr>
      </p:pic>
      <p:sp>
        <p:nvSpPr>
          <p:cNvPr id="97" name=""/>
          <p:cNvSpPr/>
          <p:nvPr/>
        </p:nvSpPr>
        <p:spPr>
          <a:xfrm>
            <a:off x="3336840" y="6095880"/>
            <a:ext cx="329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Short View of Gazipur</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roductory of Gazipur:</a:t>
            </a:r>
            <a:br>
              <a:rPr sz="3200"/>
            </a:br>
            <a:endParaRPr b="1" lang="en-US" sz="3200" spc="-1" strike="noStrike">
              <a:solidFill>
                <a:srgbClr val="006666"/>
              </a:solidFill>
              <a:latin typeface="Arial"/>
            </a:endParaRPr>
          </a:p>
        </p:txBody>
      </p:sp>
      <p:sp>
        <p:nvSpPr>
          <p:cNvPr id="99" name="PlaceHolder 2"/>
          <p:cNvSpPr>
            <a:spLocks noGrp="1"/>
          </p:cNvSpPr>
          <p:nvPr>
            <p:ph/>
          </p:nvPr>
        </p:nvSpPr>
        <p:spPr>
          <a:xfrm>
            <a:off x="838080" y="2361960"/>
            <a:ext cx="556272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are the student of class ten in RBM School. Gazipur in Bangladesh. Bangladesh is small country with many beauties. Among the 67 districts of Bangladesh Gazipur is very dear to us. It never flooded. Green trees, crops field, Rivers, Industries, Schools, Colleges, Universities and Research centers are her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0" name="" descr="">
            <a:hlinkClick r:id="rId1"/>
          </p:cNvPr>
          <p:cNvPicPr/>
          <p:nvPr/>
        </p:nvPicPr>
        <p:blipFill>
          <a:blip r:embed="rId2"/>
          <a:stretch/>
        </p:blipFill>
        <p:spPr>
          <a:xfrm>
            <a:off x="6705720" y="2666880"/>
            <a:ext cx="194616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Place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5639040" cy="3724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one of my friend come from abroad or from other districts of Bangladesh I will tell them to visit the historical house Vaowel RajBari, Bangladesh Rice Research Institute, Bangladesh Agriculture Research Institute, National Garden, Bangladesh Open University, Shashanasha wery, Kali Temple, Toke Mosqeu. If he is fond of water, tell him to make a boat trip in the river shitalakhma.</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03" name="" descr="">
            <a:hlinkClick r:id="rId1"/>
          </p:cNvPr>
          <p:cNvPicPr/>
          <p:nvPr/>
        </p:nvPicPr>
        <p:blipFill>
          <a:blip r:embed="rId2"/>
          <a:stretch/>
        </p:blipFill>
        <p:spPr>
          <a:xfrm>
            <a:off x="6400800" y="0"/>
            <a:ext cx="2286000" cy="17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Visit Historical Place: (Vaowal Raj Bari)</a:t>
            </a:r>
            <a:br>
              <a:rPr sz="2400"/>
            </a:br>
            <a:endParaRPr b="1" lang="en-US" sz="24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am Shovo of class ten. I am recommending for Vaowal Raj Bari. It is a great fun and if he visits it. He will enjoy it. It is situated on 1000sq meter. The entrance is in the North side. It has 360 rooms, each has a balcony. It has wooden stairs. Besides these, it has guest room &amp; entertainment room. In west, side there is a 200 feats wide and 2200 feet Lonny pond, which enhances its beauty. It is imagined that the building was built in 1736 Ad. It is very near from my school. It has an education value and bears our culture.</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ngladesh Rice Research Institute (BRRI)</a:t>
            </a:r>
            <a:br>
              <a:rPr sz="3200"/>
            </a:br>
            <a:endParaRPr b="1" lang="en-US" sz="3200" spc="-1" strike="noStrike">
              <a:solidFill>
                <a:srgbClr val="006666"/>
              </a:solidFill>
              <a:latin typeface="Arial"/>
            </a:endParaRPr>
          </a:p>
        </p:txBody>
      </p:sp>
      <p:sp>
        <p:nvSpPr>
          <p:cNvPr id="107" name="PlaceHolder 2"/>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am Rosa. I read in class ten too. I specifically recommend visiting Bangladesh Rice Research Institute. It is in Gazipur, 1.5km from my school. It has rendered valuable service to the nation through the development of high-yielding nice varieties and improved production technologies which have been instrumental in doubling the anneals rice output in Bangladesh. The institute operates with 18research divisions, sections, and support service divisions. Rice is our staple food and these institutions relearn 31 modern varieties of ric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8" name="" descr=""/>
          <p:cNvPicPr/>
          <p:nvPr/>
        </p:nvPicPr>
        <p:blipFill>
          <a:blip r:embed="rId1"/>
          <a:stretch/>
        </p:blipFill>
        <p:spPr>
          <a:xfrm>
            <a:off x="6400800" y="2286000"/>
            <a:ext cx="2381400" cy="1785960"/>
          </a:xfrm>
          <a:prstGeom prst="rect">
            <a:avLst/>
          </a:prstGeom>
          <a:ln w="0">
            <a:noFill/>
          </a:ln>
        </p:spPr>
      </p:pic>
      <p:pic>
        <p:nvPicPr>
          <p:cNvPr id="109" name="" descr=""/>
          <p:cNvPicPr/>
          <p:nvPr/>
        </p:nvPicPr>
        <p:blipFill>
          <a:blip r:embed="rId2"/>
          <a:stretch/>
        </p:blipFill>
        <p:spPr>
          <a:xfrm>
            <a:off x="6477120" y="434340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1981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s</a:t>
            </a:r>
            <a:endParaRPr b="1" lang="en-US" sz="3600" spc="-1" strike="noStrike">
              <a:solidFill>
                <a:srgbClr val="006666"/>
              </a:solidFill>
              <a:latin typeface="Arial"/>
            </a:endParaRPr>
          </a:p>
        </p:txBody>
      </p:sp>
      <p:sp>
        <p:nvSpPr>
          <p:cNvPr id="111" name="PlaceHolder 2"/>
          <p:cNvSpPr>
            <a:spLocks noGrp="1"/>
          </p:cNvSpPr>
          <p:nvPr>
            <p:ph/>
          </p:nvPr>
        </p:nvSpPr>
        <p:spPr>
          <a:xfrm>
            <a:off x="838080" y="2514600"/>
            <a:ext cx="7848720" cy="410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angladesh Open Universit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ma of class ten. I will recommend my foreign friends to visit the Bangladesh Open University. It will take 20 minutes to go there from my school. It works to educate the drop out and service holders. As our country is a developing country, so university helps those who has no regular institutional education.</a:t>
            </a:r>
            <a:br>
              <a:rPr sz="1800"/>
            </a:br>
            <a:br>
              <a:rPr sz="1800"/>
            </a:br>
            <a:r>
              <a:rPr b="1" lang="en-US" sz="1800" spc="-1" strike="noStrike">
                <a:solidFill>
                  <a:srgbClr val="003366"/>
                </a:solidFill>
                <a:latin typeface="Arial"/>
              </a:rPr>
              <a:t>Hindu Temple:</a:t>
            </a:r>
            <a:endParaRPr b="0" lang="en-US" sz="18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zen of class ten. I will recommend my foreign or other districts friends to visit "Sasaneshory". It is a temple of Hindu's for cremation of general Hindus. It was built during 1289-1317 Bangla/1911Ad. To burn the kings, queens and princes of Vaowal state. It has 14 mot for 14 kings of Vaowal Raj family. The larges (500feet) high mot is for Kali Narayon Raj. Every mot has six doors which are greatly engraved special bricks (6'' long,4'' wide &amp; 2'' high) were used to built it. It reminds us the past historical events of Gazipur</a:t>
            </a:r>
            <a:r>
              <a:rPr b="0" lang="en-US" sz="1000" spc="-1" strike="noStrike">
                <a:solidFill>
                  <a:srgbClr val="003366"/>
                </a:solidFill>
                <a:latin typeface="Arial"/>
              </a:rPr>
              <a:t>.</a:t>
            </a:r>
            <a:br>
              <a:rPr sz="1000"/>
            </a:br>
            <a:r>
              <a:rPr b="0" lang="en-US" sz="1000" spc="-1" strike="noStrike">
                <a:solidFill>
                  <a:srgbClr val="003366"/>
                </a:solidFill>
                <a:latin typeface="Arial"/>
              </a:rPr>
              <a:t> </a:t>
            </a:r>
            <a:endParaRPr b="0" lang="en-US" sz="1000" spc="-1" strike="noStrike">
              <a:solidFill>
                <a:srgbClr val="003366"/>
              </a:solidFill>
              <a:latin typeface="Arial"/>
            </a:endParaRPr>
          </a:p>
        </p:txBody>
      </p:sp>
      <p:pic>
        <p:nvPicPr>
          <p:cNvPr id="112" name="" descr=""/>
          <p:cNvPicPr/>
          <p:nvPr/>
        </p:nvPicPr>
        <p:blipFill>
          <a:blip r:embed="rId1"/>
          <a:stretch/>
        </p:blipFill>
        <p:spPr>
          <a:xfrm>
            <a:off x="5638680" y="228600"/>
            <a:ext cx="2513160" cy="17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Summary</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srin Anjuman Run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Lead T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vam,Rozen, Roma, Shovo, Shampad, Apon, Billal, Balram, Belay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Rani Bilash Moni Govt. Boys High Schoo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5:15:29Z</dcterms:created>
  <dc:creator>rdt</dc:creator>
  <dc:description/>
  <dc:language>en-US</dc:language>
  <cp:lastModifiedBy>rdt</cp:lastModifiedBy>
  <dcterms:modified xsi:type="dcterms:W3CDTF">2007-05-23T06:11:45Z</dcterms:modified>
  <cp:revision>19</cp:revision>
  <dc:subject/>
  <dc:title>Community Treasure Mapping (Gazipur)</dc:title>
</cp:coreProperties>
</file>