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A53-A318-4E18-92C0-5D9A7782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08C-BB55-4654-9AA4-4E87957F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159-351C-4C15-9817-BD8849C2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334-7155-4871-80A0-D522274F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AB4-0559-41DF-8EC6-60630110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761-6B82-4484-97B9-9AC033A7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D56-31C4-4FC9-A5FD-B89A89B5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372-F89D-40A7-B850-E3332B81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888-1D20-4504-ACB0-DAE1C16C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5CA-6253-4322-B39F-513D8760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8CE-DC21-41F6-B0DD-B79118FC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1AC-BD28-44B0-A96E-823F699D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899C-E66E-4ADE-92AA-2CF741234F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hyperlink" Target="http://www.palstinerce.osg/" TargetMode="Externa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29000" y="14479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Stenci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9000" y="13716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Stenci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05320" y="11430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Stenci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76720" y="12193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Stenci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1447920"/>
            <a:ext cx="1905120" cy="22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Maiandra GD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81280" y="1219320"/>
            <a:ext cx="289584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Ravie"/>
              </a:rPr>
              <a:t>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Ravie"/>
              <a:ea typeface="Ravie"/>
            </a:endParaRPr>
          </a:p>
        </p:txBody>
      </p:sp>
    </p:spTree>
  </p:cSld>
  <p:transition advTm="1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62320" y="304920"/>
            <a:ext cx="3423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orte"/>
              </a:rPr>
              <a:t>name of ala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81480" y="31240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orte"/>
              </a:rPr>
              <a:t>(2)mohanad jal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81480" y="38862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(3) qasem na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57800" y="47242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(4) ameer fan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81480" y="236232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(1)hamzahram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54864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(5)eaid a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05320" y="61722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Forte"/>
              </a:rPr>
              <a:t>(6)ashraf sa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9718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Forte"/>
              </a:rPr>
              <a:t>(7)mahmmod naf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0" y="1676520"/>
            <a:ext cx="386712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names of student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p:transition advTm="16000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86480" y="37339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aaya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514600"/>
            <a:ext cx="24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0200" y="495288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Crescent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2438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ndalus"/>
              </a:rPr>
              <a:t>Pharmacy Max Ker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05520" y="838080"/>
            <a:ext cx="327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adley Hand ITC"/>
              </a:rPr>
              <a:t>The name of  hospital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762120"/>
            <a:ext cx="4191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urlz MT"/>
              </a:rPr>
              <a:t>the name pharmaceutical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62" name=""/>
          <p:cNvSpPr/>
          <p:nvPr/>
        </p:nvSpPr>
        <p:spPr>
          <a:xfrm>
            <a:off x="414720" y="373392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52280"/>
            <a:ext cx="3733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ot Pizza"/>
              </a:rPr>
              <a:t>max keer pharmc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762120"/>
            <a:ext cx="38862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Mackie kier pharm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Address : ramlah _ al mansion N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Soupier market Brav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Telephone: 02_29660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E-mail: max kier phamacy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The important of this hospita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Theta it’s the top hospital 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All decides and make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orte"/>
              </a:rPr>
              <a:t>And its have the technical me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029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403848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543800" y="35809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y Max K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19810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219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zziness al a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64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6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990720"/>
            <a:ext cx="37339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Address : al bear _ al kudos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At the positive of al tamari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Throngs : yosif kalid Abu kd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Telephone : 02_29715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The important of the phar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Corsiva"/>
                <a:ea typeface="Old Antic Outline Shaded"/>
              </a:rPr>
              <a:t>Is it top pharmacy its all dioc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79840" y="-21883680"/>
            <a:ext cx="298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important of this hospita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ta it’s the top hospital 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ll decides and make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nd its have the technical 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ashie and all the docto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ospital are vive siph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58320" y="15228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ri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60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334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572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724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y 24 hours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850"/>
                            </p:stCondLst>
                            <p:childTnLst>
                              <p:par>
                                <p:cTn id="2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65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400"/>
                            </p:stCondLst>
                            <p:childTnLst>
                              <p:par>
                                <p:cTn id="2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150"/>
                            </p:stCondLst>
                            <p:childTnLst>
                              <p:par>
                                <p:cTn id="2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600"/>
                            </p:stCondLst>
                            <p:childTnLst>
                              <p:par>
                                <p:cTn id="2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9300"/>
                            </p:stCondLst>
                            <p:childTnLst>
                              <p:par>
                                <p:cTn id="2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9800"/>
                            </p:stCondLst>
                            <p:childTnLst>
                              <p:par>
                                <p:cTn id="2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3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7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2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152280"/>
            <a:ext cx="2905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ibertySCD"/>
              </a:rPr>
              <a:t>ramlah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ibertySCD"/>
              <a:ea typeface="LibertySCD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90720"/>
            <a:ext cx="4038480" cy="89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Ramallah hospit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address is ramallah _kid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Camp at the opisif of al sheik za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top mane jar is : ail abed rap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elephone : 2982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important of this hospital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at it’s the top hospital 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All decides and make and its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The tactical Medicaid mashee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dwardian Script ITC"/>
              </a:rPr>
              <a:t>All the doctovs in the hospital</a:t>
            </a:r>
            <a:r>
              <a:rPr b="1" lang="en-US" sz="2000" spc="-1" strike="noStrike">
                <a:solidFill>
                  <a:srgbClr val="cc0000"/>
                </a:solidFill>
                <a:latin typeface="Edwardian Script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086600" y="1219320"/>
            <a:ext cx="17017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7772400" y="1447920"/>
            <a:ext cx="255600" cy="54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508720" y="6337440"/>
            <a:ext cx="461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24480" y="76212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5040" y="169164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a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2895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heh zaied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25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750"/>
                            </p:stCondLst>
                            <p:childTnLst>
                              <p:par>
                                <p:cTn id="3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100"/>
                            </p:stCondLst>
                            <p:childTnLst>
                              <p:par>
                                <p:cTn id="3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900"/>
                            </p:stCondLst>
                            <p:childTnLst>
                              <p:par>
                                <p:cTn id="3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800"/>
                            </p:stCondLst>
                            <p:childTnLst>
                              <p:par>
                                <p:cTn id="3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650"/>
                            </p:stCondLst>
                            <p:childTnLst>
                              <p:par>
                                <p:cTn id="3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650"/>
                            </p:stCondLst>
                            <p:childTnLst>
                              <p:par>
                                <p:cTn id="3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7350"/>
                            </p:stCondLst>
                            <p:childTnLst>
                              <p:par>
                                <p:cTn id="3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9150"/>
                            </p:stCondLst>
                            <p:childTnLst>
                              <p:par>
                                <p:cTn id="3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1050"/>
                            </p:stCondLst>
                            <p:childTnLst>
                              <p:par>
                                <p:cTn id="3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2800"/>
                            </p:stCondLst>
                            <p:childTnLst>
                              <p:par>
                                <p:cTn id="40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3800"/>
                            </p:stCondLst>
                            <p:childTnLst>
                              <p:par>
                                <p:cTn id="4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4800"/>
                            </p:stCondLst>
                            <p:childTnLst>
                              <p:par>
                                <p:cTn id="4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800"/>
                            </p:stCondLst>
                            <p:childTnLst>
                              <p:par>
                                <p:cTn id="4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78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9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8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90720"/>
            <a:ext cx="403848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Headdress is ramallah _ street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The pastry of mommas ba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The important of the hospital 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All decides and 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Thorn : govern 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E_ mail: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-15228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012000" y="6381720"/>
            <a:ext cx="43164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91320" y="16002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1936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648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114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Alraaya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0"/>
            <a:ext cx="3038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lraaya hospi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50"/>
                            </p:stCondLst>
                            <p:childTnLst>
                              <p:par>
                                <p:cTn id="4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650"/>
                            </p:stCondLst>
                            <p:childTnLst>
                              <p:par>
                                <p:cTn id="4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300"/>
                            </p:stCondLst>
                            <p:childTnLst>
                              <p:par>
                                <p:cTn id="4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150"/>
                            </p:stCondLst>
                            <p:childTnLst>
                              <p:par>
                                <p:cTn id="4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450"/>
                            </p:stCondLst>
                            <p:childTnLst>
                              <p:par>
                                <p:cTn id="5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50"/>
                            </p:stCondLst>
                            <p:childTnLst>
                              <p:par>
                                <p:cTn id="5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9550"/>
                            </p:stCondLst>
                            <p:childTnLst>
                              <p:par>
                                <p:cTn id="5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50"/>
                            </p:stCondLst>
                            <p:childTnLst>
                              <p:par>
                                <p:cTn id="5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05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550"/>
                            </p:stCondLst>
                            <p:childTnLst>
                              <p:par>
                                <p:cTn id="5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205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550"/>
                            </p:stCondLst>
                            <p:childTnLst>
                              <p:par>
                                <p:cTn id="5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280" y="30492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Red crescent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01880"/>
            <a:ext cx="40384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Red crescent hospi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Address : al bira _ nablis stre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Nair at the Islamic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Bookies braid:36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Tob manjry : its unrwa hospi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Telephone : 2400666/105/1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And : 2406515/2406260/1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Fax : 24065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Acetone 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Forte"/>
                <a:hlinkClick r:id="rId4"/>
              </a:rPr>
              <a:t>www.palstinerce.o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orte"/>
              </a:rPr>
              <a:t>E-mail : info@palstine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18148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d crescent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3581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m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250"/>
                            </p:stCondLst>
                            <p:childTnLst>
                              <p:par>
                                <p:cTn id="5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2750"/>
                            </p:stCondLst>
                            <p:childTnLst>
                              <p:par>
                                <p:cTn id="5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5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6000"/>
                            </p:stCondLst>
                            <p:childTnLst>
                              <p:par>
                                <p:cTn id="6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2000"/>
                            </p:stCondLst>
                            <p:childTnLst>
                              <p:par>
                                <p:cTn id="6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0"/>
                            </p:stCondLst>
                            <p:childTnLst>
                              <p:par>
                                <p:cTn id="62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2000"/>
                            </p:stCondLst>
                            <p:childTnLst>
                              <p:par>
                                <p:cTn id="6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8250"/>
                            </p:stCondLst>
                            <p:childTnLst>
                              <p:par>
                                <p:cTn id="6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9250"/>
                            </p:stCondLst>
                            <p:childTnLst>
                              <p:par>
                                <p:cTn id="6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250"/>
                            </p:stCondLst>
                            <p:childTnLst>
                              <p:par>
                                <p:cTn id="6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225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7:54:04Z</dcterms:created>
  <dc:creator>UNRWA</dc:creator>
  <dc:description/>
  <dc:language>en-US</dc:language>
  <cp:lastModifiedBy>ramadan</cp:lastModifiedBy>
  <dcterms:modified xsi:type="dcterms:W3CDTF">2007-05-19T08:40:20Z</dcterms:modified>
  <cp:revision>15</cp:revision>
  <dc:subject/>
  <dc:title>الشريحة 1</dc:title>
</cp:coreProperties>
</file>