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83F-2CC6-4367-AE5B-AD14ABD2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444-BB62-40B4-9B05-534504A8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D3D-AC89-48D7-BAC3-96C684D1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7F3-BC03-4B15-8BEA-BC2A27EB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594-F81A-47FC-9FCD-A24D9912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6A5-B91A-4479-A5E3-8A5FB2AE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2FB-2746-421A-8071-8681B1E5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4CA-BA0D-4E72-A166-89D2679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87E-A59D-4EAE-A8E7-002ABD7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A76-F8C9-4DC7-B80B-C7E7708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915-4022-458E-826F-EAB5E78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625-D410-440B-B21F-12DE2B13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D83E-93BD-4774-A3DF-44F1C5E521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name of a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e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Mackie kier phar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ddress : ramlah _ al mansion N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Soupier market Brav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elephon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E-mail: max kier 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 important of this hospit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ta it’s the top hospital 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ll decides and make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nd its have the technical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ddress : al bear _ al 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t the positive of al tamari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rongs : yosif kalid Abu k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elephone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e important of the 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Is it top pharmacy its all dioc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79840" y="-21883680"/>
            <a:ext cx="29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important of this hospit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ta it’s the top hospital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ll decides and mak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d its have the technical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shie and all the docto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ospital are vive siph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6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40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150"/>
                            </p:stCondLst>
                            <p:childTnLst>
                              <p:par>
                                <p:cTn id="2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600"/>
                            </p:stCondLst>
                            <p:childTnLst>
                              <p:par>
                                <p:cTn id="2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3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800"/>
                            </p:stCondLst>
                            <p:childTnLst>
                              <p:par>
                                <p:cTn id="2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7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2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4038480" cy="89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Ramallah hospit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address is ramallah _kid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Camp at the opisif of al sheik za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op mane jar is : ail abed rap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elephone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important of this hospita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at it’s the top hospital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decides and make and its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actical Medicaid mashee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the doctovs in the hospital</a:t>
            </a:r>
            <a:r>
              <a:rPr b="1" lang="en-US" sz="2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5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5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100"/>
                            </p:stCondLst>
                            <p:childTnLst>
                              <p:par>
                                <p:cTn id="3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900"/>
                            </p:stCondLst>
                            <p:childTnLst>
                              <p:par>
                                <p:cTn id="3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800"/>
                            </p:stCondLst>
                            <p:childTnLst>
                              <p:par>
                                <p:cTn id="3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650"/>
                            </p:stCondLst>
                            <p:childTnLst>
                              <p:par>
                                <p:cTn id="3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35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15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1050"/>
                            </p:stCondLst>
                            <p:childTnLst>
                              <p:par>
                                <p:cTn id="3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2800"/>
                            </p:stCondLst>
                            <p:childTnLst>
                              <p:par>
                                <p:cTn id="4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3800"/>
                            </p:stCondLst>
                            <p:childTnLst>
                              <p:par>
                                <p:cTn id="4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4800"/>
                            </p:stCondLst>
                            <p:childTnLst>
                              <p:par>
                                <p:cTn id="4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80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78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8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90720"/>
            <a:ext cx="403848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Headdress is ramallah _ street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pastry of mommas ba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important of the hospital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ll decides and 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orn : govern 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E_ mai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-15228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2000" y="6381720"/>
            <a:ext cx="43164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91320" y="1600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193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114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Alraaya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0"/>
            <a:ext cx="3038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raaya hospi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50"/>
                            </p:stCondLst>
                            <p:childTnLst>
                              <p:par>
                                <p:cTn id="4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650"/>
                            </p:stCondLst>
                            <p:childTnLst>
                              <p:par>
                                <p:cTn id="4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300"/>
                            </p:stCondLst>
                            <p:childTnLst>
                              <p:par>
                                <p:cTn id="4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150"/>
                            </p:stCondLst>
                            <p:childTnLst>
                              <p:par>
                                <p:cTn id="4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450"/>
                            </p:stCondLst>
                            <p:childTnLst>
                              <p:par>
                                <p:cTn id="5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50"/>
                            </p:stCondLst>
                            <p:childTnLst>
                              <p:par>
                                <p:cTn id="5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550"/>
                            </p:stCondLst>
                            <p:childTnLst>
                              <p:par>
                                <p:cTn id="5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50"/>
                            </p:stCondLst>
                            <p:childTnLst>
                              <p:par>
                                <p:cTn id="5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5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55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05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550"/>
                            </p:stCondLst>
                            <p:childTnLst>
                              <p:par>
                                <p:cTn id="5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1880"/>
            <a:ext cx="4038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Red crescent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ddress : al bira _ nablis stre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Nair at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Bookies braid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ob manjry : its unrwa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elephone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nd : 2406515/2406260/1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ceton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Forte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25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2750"/>
                            </p:stCondLst>
                            <p:childTnLst>
                              <p:par>
                                <p:cTn id="5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5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2000"/>
                            </p:stCondLst>
                            <p:childTnLst>
                              <p:par>
                                <p:cTn id="6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0"/>
                            </p:stCondLst>
                            <p:childTnLst>
                              <p:par>
                                <p:cTn id="6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8250"/>
                            </p:stCondLst>
                            <p:childTnLst>
                              <p:par>
                                <p:cTn id="6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925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250"/>
                            </p:stCondLst>
                            <p:childTnLst>
                              <p:par>
                                <p:cTn id="6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225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ramadan</cp:lastModifiedBy>
  <dcterms:modified xsi:type="dcterms:W3CDTF">2007-05-19T08:40:20Z</dcterms:modified>
  <cp:revision>15</cp:revision>
  <dc:subject/>
  <dc:title>الشريحة 1</dc:title>
</cp:coreProperties>
</file>