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491-E393-4DCE-9C95-AB5FD7FB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1A0-0860-43EB-9A65-433B7B20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DE9-3ABA-4E5F-BA63-D88328AB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F57-3159-4530-813E-DE4B8D6E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824-A86B-48B5-B868-BE467BD1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4A4-842A-4A68-AC13-3EA38C34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B1C-ECED-43C2-9EFA-8817938A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2FF-CE83-4AA4-98C3-8F8B3D2B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577-98CA-4C1D-8261-E311CDCE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F4B-2FE2-4EEF-9334-17E59478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B63-E241-410E-A547-1DE6DC73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A46-BA50-44C1-8AB9-0BD9DA91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F259-97D4-430D-8FDE-4A109C1839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hyperlink" Target="http://www.palstinerce.osg/" TargetMode="External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75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429000" y="14479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Stenci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29000" y="13716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Stenci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05320" y="11430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Stenci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76720" y="12193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Stenci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14800" y="1447920"/>
            <a:ext cx="1905120" cy="22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Maiandra GD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81280" y="1219320"/>
            <a:ext cx="289584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Ravie"/>
              </a:rPr>
              <a:t>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Ravie"/>
              <a:ea typeface="Ravie"/>
            </a:endParaRPr>
          </a:p>
        </p:txBody>
      </p:sp>
    </p:spTree>
  </p:cSld>
  <p:transition advTm="16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362320" y="304920"/>
            <a:ext cx="3423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orte"/>
              </a:rPr>
              <a:t>name of ala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81480" y="31240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orte"/>
              </a:rPr>
              <a:t>(2)mohanad jal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81480" y="38862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Forte"/>
              </a:rPr>
              <a:t>(3) qasem nas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57800" y="47242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Forte"/>
              </a:rPr>
              <a:t>(4) ameer fan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81480" y="236232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(1)hamzahramd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0080" y="54864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Forte"/>
              </a:rPr>
              <a:t>(5)eaid a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05320" y="61722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Forte"/>
              </a:rPr>
              <a:t>(6)ashraf sa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9718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Forte"/>
              </a:rPr>
              <a:t>(7)mahmmod naf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0" y="1676520"/>
            <a:ext cx="386712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names of student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p:transition advTm="16000"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86480" y="37339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aaya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514600"/>
            <a:ext cx="24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0200" y="4952880"/>
            <a:ext cx="30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Crescent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2438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ndalus"/>
              </a:rPr>
              <a:t>Pharmacy Max Ker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05520" y="838080"/>
            <a:ext cx="3276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radley Hand ITC"/>
              </a:rPr>
              <a:t>The name of  hospital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762120"/>
            <a:ext cx="4191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urlz MT"/>
              </a:rPr>
              <a:t>the name pharmaceutical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62" name=""/>
          <p:cNvSpPr/>
          <p:nvPr/>
        </p:nvSpPr>
        <p:spPr>
          <a:xfrm>
            <a:off x="414720" y="373392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500"/>
                            </p:stCondLst>
                            <p:childTnLst>
                              <p:par>
                                <p:cTn id="1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3750"/>
                            </p:stCondLst>
                            <p:childTnLst>
                              <p:par>
                                <p:cTn id="1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750"/>
                            </p:stCondLst>
                            <p:childTnLst>
                              <p:par>
                                <p:cTn id="1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152280"/>
            <a:ext cx="37339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ot Pizza"/>
              </a:rPr>
              <a:t>max keer pharmc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762120"/>
            <a:ext cx="38862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Mackie kier pharm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Address : ramlah _ al mansion N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Soupier market Brav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Telephone: 02_29660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E-mail: max kier phamacy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The important of this hospital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Theta it’s the top hospital 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All decides and make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And its have the technical me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029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403848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543800" y="358092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1523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y Max K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19810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1219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zziness al a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64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6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990720"/>
            <a:ext cx="373392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Address : al bear _ al kudos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At the positive of al tamari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Throngs : yosif kalid Abu kd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Telephone : 02_29715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The important of the phar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Is it top pharmacy its all dioc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79840" y="-21883680"/>
            <a:ext cx="298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 important of this hospita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ta it’s the top hospital 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ll decides and make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nd its have the technical me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ashie and all the doctor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ospital are vive siph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58320" y="15228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2362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ari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608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334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4572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724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a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" y="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harmacy 24 hours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6000"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850"/>
                            </p:stCondLst>
                            <p:childTnLst>
                              <p:par>
                                <p:cTn id="2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65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400"/>
                            </p:stCondLst>
                            <p:childTnLst>
                              <p:par>
                                <p:cTn id="2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150"/>
                            </p:stCondLst>
                            <p:childTnLst>
                              <p:par>
                                <p:cTn id="2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7600"/>
                            </p:stCondLst>
                            <p:childTnLst>
                              <p:par>
                                <p:cTn id="2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9300"/>
                            </p:stCondLst>
                            <p:childTnLst>
                              <p:par>
                                <p:cTn id="2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9800"/>
                            </p:stCondLst>
                            <p:childTnLst>
                              <p:par>
                                <p:cTn id="29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1700"/>
                            </p:stCondLst>
                            <p:childTnLst>
                              <p:par>
                                <p:cTn id="3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7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32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152280"/>
            <a:ext cx="2905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ibertySCD"/>
              </a:rPr>
              <a:t>ramlah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ibertySCD"/>
              <a:ea typeface="LibertySCD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90720"/>
            <a:ext cx="4038480" cy="89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Ramallah hospit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e address is ramallah _kid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Camp at the opisif of al sheik za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e top mane jar is : ail abed rap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elephone : 2982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e important of this hospital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at it’s the top hospital 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All decides and make and its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e tactical Medicaid mashee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All the doctovs in the hospital</a:t>
            </a:r>
            <a:r>
              <a:rPr b="1" lang="en-US" sz="2000" spc="-1" strike="noStrike">
                <a:solidFill>
                  <a:srgbClr val="cc0000"/>
                </a:solidFill>
                <a:latin typeface="Edwardian Script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086600" y="1219320"/>
            <a:ext cx="17017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7772400" y="1447920"/>
            <a:ext cx="255600" cy="54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5508720" y="6337440"/>
            <a:ext cx="4618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324480" y="762120"/>
            <a:ext cx="24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5040" y="169164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a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2895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heh zaied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25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4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750"/>
                            </p:stCondLst>
                            <p:childTnLst>
                              <p:par>
                                <p:cTn id="3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100"/>
                            </p:stCondLst>
                            <p:childTnLst>
                              <p:par>
                                <p:cTn id="3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900"/>
                            </p:stCondLst>
                            <p:childTnLst>
                              <p:par>
                                <p:cTn id="3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800"/>
                            </p:stCondLst>
                            <p:childTnLst>
                              <p:par>
                                <p:cTn id="3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650"/>
                            </p:stCondLst>
                            <p:childTnLst>
                              <p:par>
                                <p:cTn id="3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3800"/>
                            </p:stCondLst>
                            <p:childTnLst>
                              <p:par>
                                <p:cTn id="3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650"/>
                            </p:stCondLst>
                            <p:childTnLst>
                              <p:par>
                                <p:cTn id="3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7350"/>
                            </p:stCondLst>
                            <p:childTnLst>
                              <p:par>
                                <p:cTn id="3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9150"/>
                            </p:stCondLst>
                            <p:childTnLst>
                              <p:par>
                                <p:cTn id="3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1050"/>
                            </p:stCondLst>
                            <p:childTnLst>
                              <p:par>
                                <p:cTn id="3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2800"/>
                            </p:stCondLst>
                            <p:childTnLst>
                              <p:par>
                                <p:cTn id="40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3800"/>
                            </p:stCondLst>
                            <p:childTnLst>
                              <p:par>
                                <p:cTn id="4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4800"/>
                            </p:stCondLst>
                            <p:childTnLst>
                              <p:par>
                                <p:cTn id="4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800"/>
                            </p:stCondLst>
                            <p:childTnLst>
                              <p:par>
                                <p:cTn id="4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780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90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8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90720"/>
            <a:ext cx="403848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Headdress is ramallah _ street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The pastry of mommas ba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The important of the hospital 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All decides and 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Thorn : govern 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E_ mail: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11640" y="-15228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012000" y="6381720"/>
            <a:ext cx="43164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791320" y="16002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1936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895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am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4648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a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1143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Alraaya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0"/>
            <a:ext cx="3038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lraaya hospit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16000">
    <p:blinds dir="ver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50"/>
                            </p:stCondLst>
                            <p:childTnLst>
                              <p:par>
                                <p:cTn id="47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650"/>
                            </p:stCondLst>
                            <p:childTnLst>
                              <p:par>
                                <p:cTn id="48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300"/>
                            </p:stCondLst>
                            <p:childTnLst>
                              <p:par>
                                <p:cTn id="4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150"/>
                            </p:stCondLst>
                            <p:childTnLst>
                              <p:par>
                                <p:cTn id="4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450"/>
                            </p:stCondLst>
                            <p:childTnLst>
                              <p:par>
                                <p:cTn id="5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650"/>
                            </p:stCondLst>
                            <p:childTnLst>
                              <p:par>
                                <p:cTn id="5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9550"/>
                            </p:stCondLst>
                            <p:childTnLst>
                              <p:par>
                                <p:cTn id="5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50"/>
                            </p:stCondLst>
                            <p:childTnLst>
                              <p:par>
                                <p:cTn id="51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05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1550"/>
                            </p:stCondLst>
                            <p:childTnLst>
                              <p:par>
                                <p:cTn id="5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205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550"/>
                            </p:stCondLst>
                            <p:childTnLst>
                              <p:par>
                                <p:cTn id="5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280" y="304920"/>
            <a:ext cx="32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gency FB"/>
              </a:rPr>
              <a:t>Red crescent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01880"/>
            <a:ext cx="40384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Red crescent hospi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Address : al bira _ nablis stre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Nair at the Islamic 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Bookies braid:36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Tob manjry : its unrwa hospi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Telephone : 2400666/105/1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And : 2406515/2406260/1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Fax : 24065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Acetone :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Forte"/>
                <a:hlinkClick r:id="rId4"/>
              </a:rPr>
              <a:t>www.palstinerce.o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E-mail : info@palstine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181480" y="762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ed crescent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3581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amma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8250"/>
                            </p:stCondLst>
                            <p:childTnLst>
                              <p:par>
                                <p:cTn id="5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2750"/>
                            </p:stCondLst>
                            <p:childTnLst>
                              <p:par>
                                <p:cTn id="59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5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6000"/>
                            </p:stCondLst>
                            <p:childTnLst>
                              <p:par>
                                <p:cTn id="6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2000"/>
                            </p:stCondLst>
                            <p:childTnLst>
                              <p:par>
                                <p:cTn id="61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5000"/>
                            </p:stCondLst>
                            <p:childTnLst>
                              <p:par>
                                <p:cTn id="62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2000"/>
                            </p:stCondLst>
                            <p:childTnLst>
                              <p:par>
                                <p:cTn id="6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8250"/>
                            </p:stCondLst>
                            <p:childTnLst>
                              <p:par>
                                <p:cTn id="6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9250"/>
                            </p:stCondLst>
                            <p:childTnLst>
                              <p:par>
                                <p:cTn id="6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0250"/>
                            </p:stCondLst>
                            <p:childTnLst>
                              <p:par>
                                <p:cTn id="6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225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7:54:04Z</dcterms:created>
  <dc:creator>UNRWA</dc:creator>
  <dc:description/>
  <dc:language>en-US</dc:language>
  <cp:lastModifiedBy>ramadan</cp:lastModifiedBy>
  <dcterms:modified xsi:type="dcterms:W3CDTF">2007-05-19T08:40:20Z</dcterms:modified>
  <cp:revision>15</cp:revision>
  <dc:subject/>
  <dc:title>الشريحة 1</dc:title>
</cp:coreProperties>
</file>